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6F24-D2A8-451F-B3D2-78C04450AE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FA54-EFE1-4901-B2DB-DD4CE551DA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4F01-3EF5-4090-8CA4-994677BC34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BDAE-3DA3-456A-B9A8-69576A5B04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A5EE-4C9B-449A-A3CA-62892C5E2C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84D-4E4F-4DD8-93DE-5B511A4D6F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2FB1-6C8F-4008-8340-431F3763AF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95D2-EF1E-4618-8195-4B9649E430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59AD-DC73-4109-AC42-44F8DD2467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D34E-169D-4C32-9051-35DF65A8FD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6C51-7330-439C-9DDD-704427CCD4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CC2D-3A44-46B7-A574-60DC1C43CD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E494-AE97-4C5B-ADF8-8F398C19CB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2B10-CFB6-404F-BCEC-F8CA1E112B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B782-87C4-4FED-A87D-71CB9D6BAD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4F37-A9FC-4010-884E-0B1DB4FDBD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E9A1-6B0F-4553-94D1-3531244182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FA57-3995-44E5-960C-2F97C605D5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502A-13E5-4314-83A3-BD91A49C39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0387-35B2-4D27-9E16-E131CBFE27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AF4D3-9E06-41FF-904D-48E70CBBBD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3BCE-B39E-46E2-882F-14F241260C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2CF2-2746-4550-BF82-B9D660F93E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8C59-C9D6-4185-8930-38AB31D464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E510-CAFA-4B74-9F23-84A3FCF883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DD2C-3BD2-4C84-B3F0-9B1C28E2EF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B54B-5B3B-44D5-B767-2DF309CA61D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7A10-DCA3-42D9-873B-7BBCF02721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FA0A-6CC7-4A4E-B13F-1F5005547F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5DE5-8311-4287-8FF0-8B89EE3501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F7DA-A096-4444-BB11-E2815A11B5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5D51-C408-4480-B9C8-258CCAAE2D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F369-5E7C-4D27-8F61-AF168444816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6AE04-EACB-487F-896B-3B102526F0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65F-D381-4AB9-95B2-AD7DFD75E7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0593-9FA8-4381-A834-C94D17EA06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8A0F-738D-4413-AE50-815525E51FF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9810-67A3-463C-BCC9-4664944BDD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F826-6EC9-49EA-BD05-1393E8AE5E1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EF18-F0D6-4731-B7F7-9D10ACA8D9F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9BA0-5DE4-4BFE-8F00-6FF6F0B61D8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516D-E2CA-4805-ACF8-E9029065F1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C08-F551-4320-A55C-9DC0CD3A8A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480D-9A83-4FB6-BA44-FF0C7E6125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DE8-8CB7-4A5C-98C7-382F76C73B8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1B01-6002-416F-BBE8-CE1F644E4C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1FFB-A0F2-4D34-86D4-262B6146C4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D129-55D2-496C-883F-97A2ED16A2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0DCE-92D1-4F0C-A0BE-F4351847F7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46C-6E6D-4AE8-956C-DE97E52302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3838-CA3C-4ECD-9081-B08166A72EE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A331-BFB1-41AB-A885-9B1C4F5C62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E0F6-A7CD-46FF-B411-4B326023BF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B61-1B9E-4700-A0B7-DA0C2C37AB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7FA-4EE3-47BA-B9C4-44AEBB03EC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60F9-4146-4876-9DF2-20E3351EC78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6597-5F4A-4C4C-984F-4C7CB086CC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>
            <a:hlinkClick r:id="" action="ppaction://hlinkshowjump?jump=previousslide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ectangle 18">
            <a:hlinkClick r:id="" action="ppaction://hlinkshowjump?jump=firstslide"/>
          </p:cNvPr>
          <p:cNvSpPr/>
          <p:nvPr/>
        </p:nvSpPr>
        <p:spPr>
          <a:xfrm>
            <a:off x="5824440" y="6108840"/>
            <a:ext cx="1743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Rectangle 19">
            <a:hlinkClick r:id="" action="ppaction://hlinkshowjump?jump=nextslide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20">
            <a:hlinkClick r:id="" action="ppaction://hlinkshowjump?jump=endshow"/>
          </p:cNvPr>
          <p:cNvSpPr/>
          <p:nvPr/>
        </p:nvSpPr>
        <p:spPr>
          <a:xfrm>
            <a:off x="7658280" y="6105600"/>
            <a:ext cx="1231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1" name="Rectangle 16">
            <a:hlinkClick r:id="" action="ppaction://hlinkshowjump?jump=previousslide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17">
            <a:hlinkClick r:id="" action="ppaction://hlinkshowjump?jump=firstslide"/>
          </p:cNvPr>
          <p:cNvSpPr/>
          <p:nvPr/>
        </p:nvSpPr>
        <p:spPr>
          <a:xfrm>
            <a:off x="5824440" y="6108840"/>
            <a:ext cx="1743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18">
            <a:hlinkClick r:id="" action="ppaction://hlinkshowjump?jump=nextslide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9">
            <a:hlinkClick r:id="" action="ppaction://hlinkshowjump?jump=endshow"/>
          </p:cNvPr>
          <p:cNvSpPr/>
          <p:nvPr/>
        </p:nvSpPr>
        <p:spPr>
          <a:xfrm>
            <a:off x="7658280" y="6105600"/>
            <a:ext cx="12315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5.xml"/><Relationship Id="rId6" Type="http://schemas.openxmlformats.org/officeDocument/2006/relationships/slide" Target="slide34.xml"/><Relationship Id="rId7" Type="http://schemas.openxmlformats.org/officeDocument/2006/relationships/slide" Target="slide44.xml"/><Relationship Id="rId8" Type="http://schemas.openxmlformats.org/officeDocument/2006/relationships/slide" Target="slide52.xml"/><Relationship Id="rId9" Type="http://schemas.openxmlformats.org/officeDocument/2006/relationships/slide" Target="slide54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7.xml"/><Relationship Id="rId4" Type="http://schemas.openxmlformats.org/officeDocument/2006/relationships/image" Target="../media/image4.png"/><Relationship Id="rId5" Type="http://schemas.openxmlformats.org/officeDocument/2006/relationships/slide" Target="slide18.xm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" Target="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" Target="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6.png"/><Relationship Id="rId6" Type="http://schemas.openxmlformats.org/officeDocument/2006/relationships/slide" Target="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" Target="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"/><Relationship Id="rId4" Type="http://schemas.openxmlformats.org/officeDocument/2006/relationships/image" Target="../media/image10.png"/><Relationship Id="rId5" Type="http://schemas.openxmlformats.org/officeDocument/2006/relationships/slide" Target="slide8.xml"/><Relationship Id="rId6" Type="http://schemas.openxmlformats.org/officeDocument/2006/relationships/image" Target="../media/image6.png"/><Relationship Id="rId7" Type="http://schemas.openxmlformats.org/officeDocument/2006/relationships/slide" Target="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" Target=""/><Relationship Id="rId4" Type="http://schemas.openxmlformats.org/officeDocument/2006/relationships/image" Target="../media/image12.png"/><Relationship Id="rId5" Type="http://schemas.openxmlformats.org/officeDocument/2006/relationships/slide" Target=""/><Relationship Id="rId6" Type="http://schemas.openxmlformats.org/officeDocument/2006/relationships/image" Target="../media/image12.png"/><Relationship Id="rId7" Type="http://schemas.openxmlformats.org/officeDocument/2006/relationships/slide" Target=""/><Relationship Id="rId8" Type="http://schemas.openxmlformats.org/officeDocument/2006/relationships/image" Target="../media/image12.png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546120" y="1089000"/>
            <a:ext cx="795024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Why are commas importan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Item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4" action="ppaction://hlinksldjump"/>
              </a:rPr>
              <a:t>Compound sente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5" action="ppaction://hlinksldjump"/>
              </a:rPr>
              <a:t>Interrup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6" action="ppaction://hlinksldjump"/>
              </a:rPr>
              <a:t>Introductory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7" action="ppaction://hlinksldjump"/>
              </a:rPr>
              <a:t>Conventional uses of comm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8" action="ppaction://hlinksldjump"/>
              </a:rPr>
              <a:t>Review 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9" action="ppaction://hlinksldjump"/>
              </a:rPr>
              <a:t>Review 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Using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1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4"/>
          <p:cNvSpPr/>
          <p:nvPr/>
        </p:nvSpPr>
        <p:spPr>
          <a:xfrm>
            <a:off x="509760" y="2208240"/>
            <a:ext cx="704340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is project is fun easy fast and inexpens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3073320" y="230184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AutoShape 4"/>
          <p:cNvSpPr/>
          <p:nvPr/>
        </p:nvSpPr>
        <p:spPr>
          <a:xfrm flipH="1">
            <a:off x="7209720" y="23018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463920" y="21272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11"/>
          <p:cNvSpPr/>
          <p:nvPr/>
        </p:nvSpPr>
        <p:spPr>
          <a:xfrm>
            <a:off x="4861080" y="2135160"/>
            <a:ext cx="26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208400" y="21286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509760" y="2938320"/>
            <a:ext cx="7037280" cy="4748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words in a se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8"/>
          <p:cNvSpPr/>
          <p:nvPr/>
        </p:nvSpPr>
        <p:spPr>
          <a:xfrm>
            <a:off x="533520" y="227484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finished my dinner brushed my tee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ombed my hair and ran out the d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1270080" y="239868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AutoShape 14"/>
          <p:cNvSpPr/>
          <p:nvPr/>
        </p:nvSpPr>
        <p:spPr>
          <a:xfrm flipH="1">
            <a:off x="6255720" y="2717640"/>
            <a:ext cx="135000" cy="33048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480"/>
              <a:gd name="textAreaBottom" fmla="*/ 316800 h 33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3780000" y="221292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33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37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6408720" y="2184480"/>
            <a:ext cx="264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0"/>
          <p:cNvSpPr/>
          <p:nvPr/>
        </p:nvSpPr>
        <p:spPr>
          <a:xfrm>
            <a:off x="3232080" y="25192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533520" y="3330720"/>
            <a:ext cx="7037280" cy="4744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phrases in a seri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1"/>
          <p:cNvSpPr/>
          <p:nvPr/>
        </p:nvSpPr>
        <p:spPr>
          <a:xfrm>
            <a:off x="509760" y="2276640"/>
            <a:ext cx="7075440" cy="510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ld diary had ragged yellowed p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27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10"/>
          <p:cNvSpPr/>
          <p:nvPr/>
        </p:nvSpPr>
        <p:spPr>
          <a:xfrm>
            <a:off x="3587760" y="2394000"/>
            <a:ext cx="114120" cy="330120"/>
          </a:xfrm>
          <a:custGeom>
            <a:avLst/>
            <a:gdLst>
              <a:gd name="textAreaLeft" fmla="*/ 33480 w 114120"/>
              <a:gd name="textAreaRight" fmla="*/ 114480 w 11412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13"/>
          <p:cNvSpPr/>
          <p:nvPr/>
        </p:nvSpPr>
        <p:spPr>
          <a:xfrm flipH="1">
            <a:off x="5860440" y="236232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4467240" y="22496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AutoShape 30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32"/>
          <p:cNvSpPr/>
          <p:nvPr/>
        </p:nvSpPr>
        <p:spPr>
          <a:xfrm>
            <a:off x="509760" y="2944800"/>
            <a:ext cx="7061040" cy="822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two or more adjectives that come before a nou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30"/>
          <p:cNvSpPr/>
          <p:nvPr/>
        </p:nvSpPr>
        <p:spPr>
          <a:xfrm>
            <a:off x="523800" y="2225520"/>
            <a:ext cx="70390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hose the gift Mike wrapped it and Gina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gave it to Kel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11"/>
          <p:cNvSpPr/>
          <p:nvPr/>
        </p:nvSpPr>
        <p:spPr>
          <a:xfrm>
            <a:off x="1019160" y="2301840"/>
            <a:ext cx="114480" cy="330120"/>
          </a:xfrm>
          <a:custGeom>
            <a:avLst/>
            <a:gdLst>
              <a:gd name="textAreaLeft" fmla="*/ 33480 w 114480"/>
              <a:gd name="textAreaRight" fmla="*/ 114840 w 11448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12"/>
          <p:cNvSpPr/>
          <p:nvPr/>
        </p:nvSpPr>
        <p:spPr>
          <a:xfrm flipH="1">
            <a:off x="3231360" y="2665440"/>
            <a:ext cx="135000" cy="330120"/>
          </a:xfrm>
          <a:custGeom>
            <a:avLst/>
            <a:gdLst>
              <a:gd name="textAreaLeft" fmla="*/ 39240 w 135000"/>
              <a:gd name="textAreaRight" fmla="*/ 135000 w 135000"/>
              <a:gd name="textAreaTop" fmla="*/ 13680 h 330120"/>
              <a:gd name="textAreaBottom" fmla="*/ 316440 h 33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3132000" y="216864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5388120" y="21718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528480" y="1297080"/>
            <a:ext cx="80694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26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9">
            <a:hlinkClick r:id="rId3" action="ppaction://hlinksldjump"/>
          </p:cNvPr>
          <p:cNvSpPr/>
          <p:nvPr/>
        </p:nvSpPr>
        <p:spPr>
          <a:xfrm>
            <a:off x="3009960" y="604368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509760" y="3232080"/>
            <a:ext cx="7061040" cy="822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commas to separate short independent claus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71680" y="990720"/>
            <a:ext cx="21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fluffy kitten with the brown white and black spots is my favor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or lunch we had milk tuna sandwiches and pe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searched for the book in my locker at my house and in my mother’s c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t the beach we swam flew kites and built sand cast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41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2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5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46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1"/>
          <p:cNvSpPr/>
          <p:nvPr/>
        </p:nvSpPr>
        <p:spPr>
          <a:xfrm>
            <a:off x="533520" y="981000"/>
            <a:ext cx="15048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fluffy kitten with the brown white and black spots is my favori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or lunch we had milk tuna sandwiches and pear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searched for the book in my locker at my house and in my mother’s ca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t the beach we swam flew kites and built sand cast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571680" y="990720"/>
            <a:ext cx="149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6084720" y="358128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7964640" y="355752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4060800" y="30510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6492960" y="30639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5403960" y="22255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26" descr=""/>
          <p:cNvPicPr/>
          <p:nvPr/>
        </p:nvPicPr>
        <p:blipFill>
          <a:blip r:embed="rId2"/>
          <a:stretch/>
        </p:blipFill>
        <p:spPr>
          <a:xfrm>
            <a:off x="8515440" y="261144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7" descr=""/>
          <p:cNvPicPr/>
          <p:nvPr/>
        </p:nvPicPr>
        <p:blipFill>
          <a:blip r:embed="rId3"/>
          <a:stretch/>
        </p:blipFill>
        <p:spPr>
          <a:xfrm>
            <a:off x="8515440" y="32623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0" descr=""/>
          <p:cNvPicPr/>
          <p:nvPr/>
        </p:nvPicPr>
        <p:blipFill>
          <a:blip r:embed="rId4"/>
          <a:stretch/>
        </p:blipFill>
        <p:spPr>
          <a:xfrm>
            <a:off x="8515440" y="4035600"/>
            <a:ext cx="133200" cy="885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1"/>
          <p:cNvSpPr/>
          <p:nvPr/>
        </p:nvSpPr>
        <p:spPr>
          <a:xfrm>
            <a:off x="6275520" y="22082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32"/>
          <p:cNvSpPr/>
          <p:nvPr/>
        </p:nvSpPr>
        <p:spPr>
          <a:xfrm>
            <a:off x="4176720" y="44038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3"/>
          <p:cNvSpPr/>
          <p:nvPr/>
        </p:nvSpPr>
        <p:spPr>
          <a:xfrm>
            <a:off x="5597640" y="43848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9" descr="5081106-1602x2400"/>
          <p:cNvPicPr/>
          <p:nvPr/>
        </p:nvPicPr>
        <p:blipFill>
          <a:blip r:embed="rId2"/>
          <a:srcRect l="3322" t="3838" r="0" b="0"/>
          <a:stretch/>
        </p:blipFill>
        <p:spPr>
          <a:xfrm>
            <a:off x="3670200" y="4697280"/>
            <a:ext cx="180180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44"/>
          <p:cNvSpPr/>
          <p:nvPr/>
        </p:nvSpPr>
        <p:spPr>
          <a:xfrm>
            <a:off x="520560" y="4154400"/>
            <a:ext cx="786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dog bark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threw the b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31"/>
          <p:cNvSpPr/>
          <p:nvPr/>
        </p:nvSpPr>
        <p:spPr>
          <a:xfrm>
            <a:off x="520560" y="4148280"/>
            <a:ext cx="7867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dog barked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so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threw the b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41"/>
          <p:cNvSpPr/>
          <p:nvPr/>
        </p:nvSpPr>
        <p:spPr>
          <a:xfrm>
            <a:off x="530280" y="3225960"/>
            <a:ext cx="7818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Josie’s mother said she could go to the movi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r father said she had to stay ho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39"/>
          <p:cNvSpPr/>
          <p:nvPr/>
        </p:nvSpPr>
        <p:spPr>
          <a:xfrm>
            <a:off x="533520" y="2549520"/>
            <a:ext cx="78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am very tired. My sister is sleepy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528480" y="1163520"/>
            <a:ext cx="8069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 comma befor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nd, but, for, nor, or, so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yet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when it joins independent clauses in a </a:t>
            </a: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compound sentence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27" descr=""/>
          <p:cNvPicPr/>
          <p:nvPr/>
        </p:nvPicPr>
        <p:blipFill>
          <a:blip r:embed="rId4"/>
          <a:stretch/>
        </p:blipFill>
        <p:spPr>
          <a:xfrm>
            <a:off x="8486640" y="2874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89080" y="6167520"/>
            <a:ext cx="590400" cy="339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29"/>
          <p:cNvSpPr/>
          <p:nvPr/>
        </p:nvSpPr>
        <p:spPr>
          <a:xfrm>
            <a:off x="533520" y="2536920"/>
            <a:ext cx="781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am very tired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and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my sister is sleepy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523800" y="3219480"/>
            <a:ext cx="78184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Josie’s mother said she could go to the movie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but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r father said she had to stay hom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32" descr=""/>
          <p:cNvPicPr/>
          <p:nvPr/>
        </p:nvPicPr>
        <p:blipFill>
          <a:blip r:embed="rId7"/>
          <a:stretch/>
        </p:blipFill>
        <p:spPr>
          <a:xfrm>
            <a:off x="8493120" y="3867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3" descr=""/>
          <p:cNvPicPr/>
          <p:nvPr/>
        </p:nvPicPr>
        <p:blipFill>
          <a:blip r:embed="rId8"/>
          <a:stretch/>
        </p:blipFill>
        <p:spPr>
          <a:xfrm>
            <a:off x="4356000" y="21366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60480" y="6175440"/>
            <a:ext cx="1622520" cy="339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0" descr=""/>
          <p:cNvPicPr/>
          <p:nvPr/>
        </p:nvPicPr>
        <p:blipFill>
          <a:blip r:embed="rId11"/>
          <a:stretch/>
        </p:blipFill>
        <p:spPr>
          <a:xfrm>
            <a:off x="8507520" y="2913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2" descr=""/>
          <p:cNvPicPr/>
          <p:nvPr/>
        </p:nvPicPr>
        <p:blipFill>
          <a:blip r:embed="rId12"/>
          <a:stretch/>
        </p:blipFill>
        <p:spPr>
          <a:xfrm>
            <a:off x="8478720" y="39099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3" descr=""/>
          <p:cNvPicPr/>
          <p:nvPr/>
        </p:nvPicPr>
        <p:blipFill>
          <a:blip r:embed="rId13"/>
          <a:stretch/>
        </p:blipFill>
        <p:spPr>
          <a:xfrm>
            <a:off x="8435880" y="45054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7">
            <a:hlinkClick r:id="rId1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48">
            <a:hlinkClick r:id="rId1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3"/>
          <p:cNvSpPr/>
          <p:nvPr/>
        </p:nvSpPr>
        <p:spPr>
          <a:xfrm>
            <a:off x="528480" y="1297080"/>
            <a:ext cx="806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pound sentenc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two independent clauses joined by a coordinating conjunction such as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or, but, yet, so,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and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15" descr=""/>
          <p:cNvPicPr/>
          <p:nvPr/>
        </p:nvPicPr>
        <p:blipFill>
          <a:blip r:embed="rId2"/>
          <a:stretch/>
        </p:blipFill>
        <p:spPr>
          <a:xfrm>
            <a:off x="4932360" y="22734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7"/>
          <p:cNvSpPr/>
          <p:nvPr/>
        </p:nvSpPr>
        <p:spPr>
          <a:xfrm>
            <a:off x="2971800" y="2892600"/>
            <a:ext cx="4290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o turned the knob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2959200" y="3521160"/>
            <a:ext cx="4302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water poured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26" descr=""/>
          <p:cNvPicPr/>
          <p:nvPr/>
        </p:nvPicPr>
        <p:blipFill>
          <a:blip r:embed="rId3"/>
          <a:stretch/>
        </p:blipFill>
        <p:spPr>
          <a:xfrm>
            <a:off x="7440480" y="41860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35" descr=""/>
          <p:cNvPicPr/>
          <p:nvPr/>
        </p:nvPicPr>
        <p:blipFill>
          <a:blip r:embed="rId4"/>
          <a:stretch/>
        </p:blipFill>
        <p:spPr>
          <a:xfrm>
            <a:off x="768240" y="2857680"/>
            <a:ext cx="1857600" cy="23587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6"/>
          <p:cNvSpPr/>
          <p:nvPr/>
        </p:nvSpPr>
        <p:spPr>
          <a:xfrm>
            <a:off x="2952720" y="4097160"/>
            <a:ext cx="4302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o turned the knob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nd t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 water poured </a:t>
            </a:r>
            <a:br>
              <a:rPr sz="2400"/>
            </a:b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OS39087"/>
          <p:cNvPicPr/>
          <p:nvPr/>
        </p:nvPicPr>
        <p:blipFill>
          <a:blip r:embed="rId2"/>
          <a:stretch/>
        </p:blipFill>
        <p:spPr>
          <a:xfrm>
            <a:off x="477720" y="2097000"/>
            <a:ext cx="2575080" cy="3540240"/>
          </a:xfrm>
          <a:prstGeom prst="rect">
            <a:avLst/>
          </a:prstGeom>
          <a:ln w="0">
            <a:noFill/>
          </a:ln>
        </p:spPr>
      </p:pic>
      <p:sp>
        <p:nvSpPr>
          <p:cNvPr id="281" name="WordArt 4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uy Says..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6"/>
          <p:cNvSpPr/>
          <p:nvPr/>
        </p:nvSpPr>
        <p:spPr>
          <a:xfrm>
            <a:off x="3203640" y="1359000"/>
            <a:ext cx="5149800" cy="2341440"/>
          </a:xfrm>
          <a:prstGeom prst="wedgeRoundRectCallout">
            <a:avLst>
              <a:gd name="adj1" fmla="val -61282"/>
              <a:gd name="adj2" fmla="val 25523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Do not be fooled by compound verbs, which can make a sentence look like a compound sentence. You do not need to use a comma between the parts of a compound verb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7">
            <a:hlinkClick r:id="rId6" action="ppaction://hlinksldjump"/>
          </p:cNvPr>
          <p:cNvSpPr/>
          <p:nvPr/>
        </p:nvSpPr>
        <p:spPr>
          <a:xfrm>
            <a:off x="3095640" y="5880240"/>
            <a:ext cx="1374840" cy="685800"/>
          </a:xfrm>
          <a:custGeom>
            <a:avLst/>
            <a:gdLst>
              <a:gd name="textAreaLeft" fmla="*/ 44280 w 1374840"/>
              <a:gd name="textAreaRight" fmla="*/ 1330560 w 1374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291" h="21600">
                <a:moveTo>
                  <a:pt x="0" y="0"/>
                </a:moveTo>
                <a:lnTo>
                  <a:pt x="43291" y="0"/>
                </a:lnTo>
                <a:lnTo>
                  <a:pt x="43291" y="21600"/>
                </a:lnTo>
                <a:lnTo>
                  <a:pt x="0" y="21600"/>
                </a:lnTo>
                <a:close/>
              </a:path>
              <a:path fill="lightenLess" w="43291" h="21600">
                <a:moveTo>
                  <a:pt x="0" y="0"/>
                </a:moveTo>
                <a:lnTo>
                  <a:pt x="43291" y="0"/>
                </a:lnTo>
                <a:lnTo>
                  <a:pt x="41891" y="1400"/>
                </a:lnTo>
                <a:lnTo>
                  <a:pt x="1400" y="1400"/>
                </a:lnTo>
                <a:close/>
              </a:path>
              <a:path fill="darken" w="43291" h="21600">
                <a:moveTo>
                  <a:pt x="43291" y="0"/>
                </a:moveTo>
                <a:lnTo>
                  <a:pt x="43291" y="21600"/>
                </a:lnTo>
                <a:lnTo>
                  <a:pt x="41891" y="20200"/>
                </a:lnTo>
                <a:lnTo>
                  <a:pt x="41891" y="1400"/>
                </a:lnTo>
                <a:close/>
              </a:path>
              <a:path fill="darkenLess" w="43291" h="21600">
                <a:moveTo>
                  <a:pt x="432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1" y="20200"/>
                </a:lnTo>
                <a:close/>
              </a:path>
              <a:path fill="lighten" w="432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286" name="Picture 11" descr=""/>
          <p:cNvPicPr/>
          <p:nvPr/>
        </p:nvPicPr>
        <p:blipFill>
          <a:blip r:embed="rId7"/>
          <a:stretch/>
        </p:blipFill>
        <p:spPr>
          <a:xfrm>
            <a:off x="8207280" y="363708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2"/>
          <p:cNvSpPr/>
          <p:nvPr/>
        </p:nvSpPr>
        <p:spPr>
          <a:xfrm>
            <a:off x="3387600" y="3922560"/>
            <a:ext cx="49849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Dana hit the ball and ran to first ba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3424320" y="4789440"/>
            <a:ext cx="4964040" cy="39888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One 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subject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with two </a:t>
            </a:r>
            <a:r>
              <a:rPr b="1" lang="en-US" sz="2000" spc="-1" strike="noStrike">
                <a:solidFill>
                  <a:srgbClr val="7878ca"/>
                </a:solidFill>
                <a:latin typeface="Verdana"/>
              </a:rPr>
              <a:t>verb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3387600" y="3898800"/>
            <a:ext cx="49849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Dana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7878ca"/>
                </a:solidFill>
                <a:latin typeface="Verdana"/>
              </a:rPr>
              <a:t>hit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he ball and </a:t>
            </a:r>
            <a:r>
              <a:rPr b="1" lang="en-US" sz="2200" spc="-1" strike="noStrike">
                <a:solidFill>
                  <a:srgbClr val="7878ca"/>
                </a:solidFill>
                <a:latin typeface="Verdana"/>
              </a:rPr>
              <a:t>ran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o first bas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5" descr=""/>
          <p:cNvPicPr/>
          <p:nvPr/>
        </p:nvPicPr>
        <p:blipFill>
          <a:blip r:embed="rId8"/>
          <a:stretch/>
        </p:blipFill>
        <p:spPr>
          <a:xfrm>
            <a:off x="8456760" y="457056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3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528480" y="247968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ield hockey is an exciting sport but I lik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ccer even bett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28480" y="3456000"/>
            <a:ext cx="70390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alled my friends and told them all about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trip to New Y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Picture 15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24"/>
          <p:cNvSpPr/>
          <p:nvPr/>
        </p:nvSpPr>
        <p:spPr>
          <a:xfrm>
            <a:off x="528480" y="4433760"/>
            <a:ext cx="70264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ailboat was almost hidden by the fo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yet we could see part of the ma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6" name="Picture 3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2800" y="264492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4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2800" y="36226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2800" y="458136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3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38">
            <a:hlinkClick r:id="rId9" action="ppaction://hlinksldjump"/>
          </p:cNvPr>
          <p:cNvSpPr/>
          <p:nvPr/>
        </p:nvSpPr>
        <p:spPr>
          <a:xfrm>
            <a:off x="3009960" y="604368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2" descr="5260836-2508x1672"/>
          <p:cNvPicPr/>
          <p:nvPr/>
        </p:nvPicPr>
        <p:blipFill>
          <a:blip r:embed="rId2"/>
          <a:stretch/>
        </p:blipFill>
        <p:spPr>
          <a:xfrm>
            <a:off x="7432560" y="4105440"/>
            <a:ext cx="118908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5260818-2508x1672"/>
          <p:cNvPicPr/>
          <p:nvPr/>
        </p:nvPicPr>
        <p:blipFill>
          <a:blip r:embed="rId3"/>
          <a:stretch/>
        </p:blipFill>
        <p:spPr>
          <a:xfrm>
            <a:off x="6143760" y="1836720"/>
            <a:ext cx="1352520" cy="2031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0"/>
          <p:cNvSpPr/>
          <p:nvPr/>
        </p:nvSpPr>
        <p:spPr>
          <a:xfrm>
            <a:off x="453960" y="90180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mas set apart words or groups of words within a sentence. Using commas correctly helps make your meaning cle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y are commas importan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425400" y="33148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33520" y="2529000"/>
            <a:ext cx="5025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George William Jo Ann Kevin and Maria are all members of the quiz te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19" descr=""/>
          <p:cNvPicPr/>
          <p:nvPr/>
        </p:nvPicPr>
        <p:blipFill>
          <a:blip r:embed="rId4"/>
          <a:stretch/>
        </p:blipFill>
        <p:spPr>
          <a:xfrm>
            <a:off x="5697360" y="38433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0"/>
          <p:cNvSpPr/>
          <p:nvPr/>
        </p:nvSpPr>
        <p:spPr>
          <a:xfrm>
            <a:off x="509760" y="4130640"/>
            <a:ext cx="485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ithout commas, it is unclear who the members of the team a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25" descr=""/>
          <p:cNvPicPr/>
          <p:nvPr/>
        </p:nvPicPr>
        <p:blipFill>
          <a:blip r:embed="rId5"/>
          <a:stretch/>
        </p:blipFill>
        <p:spPr>
          <a:xfrm>
            <a:off x="1290600" y="51483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8"/>
          <p:cNvSpPr/>
          <p:nvPr/>
        </p:nvSpPr>
        <p:spPr>
          <a:xfrm>
            <a:off x="6127920" y="3368520"/>
            <a:ext cx="262404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George?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r George Willia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972040" y="5249880"/>
            <a:ext cx="145764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Jo? </a:t>
            </a:r>
            <a:br>
              <a:rPr sz="1800"/>
            </a:b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or Jo Ann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31" descr=""/>
          <p:cNvPicPr/>
          <p:nvPr/>
        </p:nvPicPr>
        <p:blipFill>
          <a:blip r:embed="rId6"/>
          <a:stretch/>
        </p:blipFill>
        <p:spPr>
          <a:xfrm>
            <a:off x="3822840" y="181440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5"/>
          <p:cNvSpPr/>
          <p:nvPr/>
        </p:nvSpPr>
        <p:spPr>
          <a:xfrm>
            <a:off x="528480" y="260028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Field hockey is an exciting sport but I lik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ccer even bette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28480" y="1349280"/>
            <a:ext cx="80694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5484960" y="25480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7867800" y="2597040"/>
            <a:ext cx="43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528480" y="3576600"/>
            <a:ext cx="7061400" cy="804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word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but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joins two parts of a compound sentence, so a comma should come before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1"/>
          <p:cNvSpPr/>
          <p:nvPr/>
        </p:nvSpPr>
        <p:spPr>
          <a:xfrm>
            <a:off x="7869240" y="24764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AutoShape 25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26"/>
          <p:cNvSpPr/>
          <p:nvPr/>
        </p:nvSpPr>
        <p:spPr>
          <a:xfrm>
            <a:off x="533520" y="2577960"/>
            <a:ext cx="70387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alled my friends and told them all about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trip to New Yor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528480" y="3763800"/>
            <a:ext cx="7061400" cy="10972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is sentence has a single subject,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I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, and a compound verb. It is not a compound sentence, so no comma is needed before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d.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6"/>
          <p:cNvSpPr/>
          <p:nvPr/>
        </p:nvSpPr>
        <p:spPr>
          <a:xfrm>
            <a:off x="533520" y="2592360"/>
            <a:ext cx="70261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sailboat was almost hidden by the fo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yet we could see part of the mas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45720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8" descr=""/>
          <p:cNvPicPr/>
          <p:nvPr/>
        </p:nvPicPr>
        <p:blipFill>
          <a:blip r:embed="rId2"/>
          <a:stretch/>
        </p:blipFill>
        <p:spPr>
          <a:xfrm>
            <a:off x="528480" y="130320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14"/>
          <p:cNvSpPr/>
          <p:nvPr/>
        </p:nvSpPr>
        <p:spPr>
          <a:xfrm>
            <a:off x="6937200" y="253836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2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AutoShape 25">
            <a:hlinkClick r:id="rId3" action="ppaction://hlinksldjump"/>
          </p:cNvPr>
          <p:cNvSpPr/>
          <p:nvPr/>
        </p:nvSpPr>
        <p:spPr>
          <a:xfrm>
            <a:off x="3009960" y="60181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Rectangle 27"/>
          <p:cNvSpPr/>
          <p:nvPr/>
        </p:nvSpPr>
        <p:spPr>
          <a:xfrm>
            <a:off x="528480" y="3576600"/>
            <a:ext cx="7061400" cy="804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word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yet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joins two parts of a compound sentence, so a comma should come before i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23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Text Box 24"/>
          <p:cNvSpPr/>
          <p:nvPr/>
        </p:nvSpPr>
        <p:spPr>
          <a:xfrm>
            <a:off x="571680" y="990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528480" y="1397160"/>
            <a:ext cx="7824960" cy="383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hildren must go to bed now or they will be tired in the mor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ak tree shaded the house but the shade kept the grass from grow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riel sings in the choir and Heidi plays in a b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Jim practiced the piano piece all month for he wanted to perform well at the recita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5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2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0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1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0"/>
          <p:cNvSpPr/>
          <p:nvPr/>
        </p:nvSpPr>
        <p:spPr>
          <a:xfrm>
            <a:off x="533520" y="981000"/>
            <a:ext cx="15318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Text Box 28"/>
          <p:cNvSpPr/>
          <p:nvPr/>
        </p:nvSpPr>
        <p:spPr>
          <a:xfrm>
            <a:off x="528480" y="1397160"/>
            <a:ext cx="7824960" cy="383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children must go to bed now or they will be tired in the morn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ak tree shaded the house but the shade kept the grass from grow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riel sings in the choir and Heidi plays in a ba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Jim practiced the piano piece all month for he wanted to perform well at the recital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571680" y="990720"/>
            <a:ext cx="15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14"/>
          <p:cNvSpPr/>
          <p:nvPr/>
        </p:nvSpPr>
        <p:spPr>
          <a:xfrm>
            <a:off x="5627520" y="220680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5"/>
          <p:cNvSpPr/>
          <p:nvPr/>
        </p:nvSpPr>
        <p:spPr>
          <a:xfrm>
            <a:off x="5335560" y="3065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4086360" y="38782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mpound sent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Picture 25" descr=""/>
          <p:cNvPicPr/>
          <p:nvPr/>
        </p:nvPicPr>
        <p:blipFill>
          <a:blip r:embed="rId2"/>
          <a:stretch/>
        </p:blipFill>
        <p:spPr>
          <a:xfrm>
            <a:off x="8515440" y="26956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6" descr=""/>
          <p:cNvPicPr/>
          <p:nvPr/>
        </p:nvPicPr>
        <p:blipFill>
          <a:blip r:embed="rId3"/>
          <a:stretch/>
        </p:blipFill>
        <p:spPr>
          <a:xfrm>
            <a:off x="8515440" y="35971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9" descr=""/>
          <p:cNvPicPr/>
          <p:nvPr/>
        </p:nvPicPr>
        <p:blipFill>
          <a:blip r:embed="rId4"/>
          <a:stretch/>
        </p:blipFill>
        <p:spPr>
          <a:xfrm>
            <a:off x="8515440" y="41036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30"/>
          <p:cNvSpPr/>
          <p:nvPr/>
        </p:nvSpPr>
        <p:spPr>
          <a:xfrm>
            <a:off x="6494400" y="4397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3" descr="4509173-1593x2400"/>
          <p:cNvPicPr/>
          <p:nvPr/>
        </p:nvPicPr>
        <p:blipFill>
          <a:blip r:embed="rId2"/>
          <a:srcRect l="16752" t="0" r="999" b="0"/>
          <a:stretch/>
        </p:blipFill>
        <p:spPr>
          <a:xfrm>
            <a:off x="5923080" y="3098880"/>
            <a:ext cx="2744640" cy="221292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528480" y="1297080"/>
            <a:ext cx="814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t off elements that interrupt the sent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533520" y="2941560"/>
            <a:ext cx="48639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lass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please pay attent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528480" y="22748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ords used in direct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33520" y="3562200"/>
            <a:ext cx="4863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 would like to give my speech next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Ms. Garz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509760" y="4579920"/>
            <a:ext cx="49161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Your eagernes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Ben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s refresh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11" descr=""/>
          <p:cNvPicPr/>
          <p:nvPr/>
        </p:nvPicPr>
        <p:blipFill>
          <a:blip r:embed="rId3"/>
          <a:stretch/>
        </p:blipFill>
        <p:spPr>
          <a:xfrm>
            <a:off x="5495760" y="3317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4"/>
          <a:stretch/>
        </p:blipFill>
        <p:spPr>
          <a:xfrm>
            <a:off x="5530680" y="427356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7">
            <a:hlinkClick r:id="rId5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Rectangle 21">
            <a:hlinkClick r:id="rId6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528480" y="1068480"/>
            <a:ext cx="80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 appositive or appositive phrase describes or identifies another noun. Use commas to set off appositives and appositive phrases when they are not necessary to the meaning of the sent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74560" y="2751120"/>
            <a:ext cx="6054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ir dog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haco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s a mixed bre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574560" y="3316320"/>
            <a:ext cx="6093000" cy="70380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Chaco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dentifies the dog. It is not essential to the sentence’s mean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74560" y="4152960"/>
            <a:ext cx="67820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Jamaica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 popular island for tourists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is in the Caribbean S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74560" y="5140440"/>
            <a:ext cx="6689880" cy="3988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A popular island for tourists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escribes Jama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AutoShape 11">
            <a:hlinkClick r:id="rId2" action="ppaction://hlinksldjump"/>
          </p:cNvPr>
          <p:cNvSpPr/>
          <p:nvPr/>
        </p:nvSpPr>
        <p:spPr>
          <a:xfrm>
            <a:off x="571680" y="2641680"/>
            <a:ext cx="1498320" cy="485640"/>
          </a:xfrm>
          <a:custGeom>
            <a:avLst/>
            <a:gdLst>
              <a:gd name="textAreaLeft" fmla="*/ 31320 w 1498320"/>
              <a:gd name="textAreaRight" fmla="*/ 1467000 w 1498320"/>
              <a:gd name="textAreaTop" fmla="*/ 31320 h 485640"/>
              <a:gd name="textAreaBottom" fmla="*/ 454320 h 485640"/>
            </a:gdLst>
            <a:ahLst/>
            <a:rect l="textAreaLeft" t="textAreaTop" r="textAreaRight" b="textAreaBottom"/>
            <a:pathLst>
              <a:path w="66608" h="21600">
                <a:moveTo>
                  <a:pt x="0" y="0"/>
                </a:moveTo>
                <a:lnTo>
                  <a:pt x="66608" y="0"/>
                </a:lnTo>
                <a:lnTo>
                  <a:pt x="66608" y="21600"/>
                </a:lnTo>
                <a:lnTo>
                  <a:pt x="0" y="21600"/>
                </a:lnTo>
                <a:close/>
              </a:path>
              <a:path fill="lightenLess" w="66608" h="21600">
                <a:moveTo>
                  <a:pt x="0" y="0"/>
                </a:moveTo>
                <a:lnTo>
                  <a:pt x="66608" y="0"/>
                </a:lnTo>
                <a:lnTo>
                  <a:pt x="65208" y="1400"/>
                </a:lnTo>
                <a:lnTo>
                  <a:pt x="1400" y="1400"/>
                </a:lnTo>
                <a:close/>
              </a:path>
              <a:path fill="darken" w="66608" h="21600">
                <a:moveTo>
                  <a:pt x="66608" y="0"/>
                </a:moveTo>
                <a:lnTo>
                  <a:pt x="66608" y="21600"/>
                </a:lnTo>
                <a:lnTo>
                  <a:pt x="65208" y="20200"/>
                </a:lnTo>
                <a:lnTo>
                  <a:pt x="65208" y="1400"/>
                </a:lnTo>
                <a:close/>
              </a:path>
              <a:path fill="darkenLess" w="66608" h="21600">
                <a:moveTo>
                  <a:pt x="66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208" y="20200"/>
                </a:lnTo>
                <a:close/>
              </a:path>
              <a:path fill="lighten" w="66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12" descr=""/>
          <p:cNvPicPr/>
          <p:nvPr/>
        </p:nvPicPr>
        <p:blipFill>
          <a:blip r:embed="rId3"/>
          <a:stretch/>
        </p:blipFill>
        <p:spPr>
          <a:xfrm>
            <a:off x="6827760" y="38466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7">
            <a:hlinkClick r:id="rId4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6120" y="6137280"/>
            <a:ext cx="1622520" cy="339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528480" y="247644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ndrea when are you leaving for Detroit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523800" y="3075120"/>
            <a:ext cx="704376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huck Yeager an American pilot broke t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und barrier in 194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8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1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523800" y="403848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Please raise your hand Helen when you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ant to spea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2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45400" y="250992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2800" y="326700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2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8920" y="410364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25"/>
          <p:cNvSpPr/>
          <p:nvPr/>
        </p:nvSpPr>
        <p:spPr>
          <a:xfrm>
            <a:off x="536400" y="499896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friend Tim showed up l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2" name="Picture 26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758000" y="5016600"/>
            <a:ext cx="1030320" cy="42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6"/>
          <p:cNvSpPr/>
          <p:nvPr/>
        </p:nvSpPr>
        <p:spPr>
          <a:xfrm>
            <a:off x="528480" y="2635200"/>
            <a:ext cx="7043760" cy="53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ndrea when are you leaving for Detroit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1962000" y="257508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21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5"/>
          <p:cNvSpPr/>
          <p:nvPr/>
        </p:nvSpPr>
        <p:spPr>
          <a:xfrm>
            <a:off x="528480" y="3309840"/>
            <a:ext cx="7061400" cy="80496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drea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an interrupter that comes at the beginning of the sentenc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5"/>
          <p:cNvSpPr/>
          <p:nvPr/>
        </p:nvSpPr>
        <p:spPr>
          <a:xfrm>
            <a:off x="533520" y="262404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huck Yeager an American pilot broke the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ound barrier in 194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11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21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3"/>
          <p:cNvSpPr/>
          <p:nvPr/>
        </p:nvSpPr>
        <p:spPr>
          <a:xfrm>
            <a:off x="2881440" y="256392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17"/>
          <p:cNvSpPr/>
          <p:nvPr/>
        </p:nvSpPr>
        <p:spPr>
          <a:xfrm>
            <a:off x="5457960" y="255096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AutoShape 24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Rectangle 26"/>
          <p:cNvSpPr/>
          <p:nvPr/>
        </p:nvSpPr>
        <p:spPr>
          <a:xfrm>
            <a:off x="528480" y="3591000"/>
            <a:ext cx="7061400" cy="109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 American pilot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an appositive phrase describing Chuck Yeager, so it should be set off by a comm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7" descr="5260847-1672x2508"/>
          <p:cNvPicPr/>
          <p:nvPr/>
        </p:nvPicPr>
        <p:blipFill>
          <a:blip r:embed="rId2"/>
          <a:stretch/>
        </p:blipFill>
        <p:spPr>
          <a:xfrm>
            <a:off x="2457360" y="3473280"/>
            <a:ext cx="3446640" cy="2295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Why are commas important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3520" y="12970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ommas make the meaning of this sentence clear by separating the names in the lis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0" descr=""/>
          <p:cNvPicPr/>
          <p:nvPr/>
        </p:nvPicPr>
        <p:blipFill>
          <a:blip r:embed="rId3"/>
          <a:stretch/>
        </p:blipFill>
        <p:spPr>
          <a:xfrm>
            <a:off x="8521560" y="30510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2"/>
          <p:cNvSpPr/>
          <p:nvPr/>
        </p:nvSpPr>
        <p:spPr>
          <a:xfrm>
            <a:off x="533520" y="2340000"/>
            <a:ext cx="7819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George William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Jo An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Kevi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and Maria are all members of the quiz tea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8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4"/>
          <p:cNvSpPr/>
          <p:nvPr/>
        </p:nvSpPr>
        <p:spPr>
          <a:xfrm>
            <a:off x="523800" y="261612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Please raise your hand Helen when you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ant to spea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20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23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528480" y="3583080"/>
            <a:ext cx="7061400" cy="7128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Helen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nterrupts the sentence and needs to be set off by comm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4135320" y="2550960"/>
            <a:ext cx="435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5021280" y="256536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7686720" y="264780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8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33520" y="2697120"/>
            <a:ext cx="7043760" cy="49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friend Tim showed up l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22360" y="3367080"/>
            <a:ext cx="7061040" cy="109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appositive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Tim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not set off by commas because it is essential. The speaker is telling us which friend was lat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3" name="Picture 2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21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571680" y="990720"/>
            <a:ext cx="209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sister was happy to see her favorite movie 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Charlotte’s Web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laine who swims well wants to become a lifeguar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Juan the captain of our soccer team is il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en you go outside Kami please take out the tras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Text Box 23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26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7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AutoShape 20"/>
          <p:cNvSpPr/>
          <p:nvPr/>
        </p:nvSpPr>
        <p:spPr>
          <a:xfrm>
            <a:off x="533520" y="981000"/>
            <a:ext cx="155412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528480" y="1398600"/>
            <a:ext cx="7824960" cy="3838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y sister was excited to see her favorite movie </a:t>
            </a:r>
            <a:r>
              <a:rPr b="0" i="1" lang="en-US" sz="2200" spc="-1" strike="noStrike">
                <a:solidFill>
                  <a:srgbClr val="330066"/>
                </a:solidFill>
                <a:latin typeface="Verdana"/>
              </a:rPr>
              <a:t>Charlotte’s Web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laine who swims well wants to become a lifeguar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Juan the captain of our soccer team is il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en you go outside Kami please take out the trash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errupt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571680" y="9907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7610400" y="225108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1839960" y="30639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 Box 16"/>
          <p:cNvSpPr/>
          <p:nvPr/>
        </p:nvSpPr>
        <p:spPr>
          <a:xfrm>
            <a:off x="1746360" y="38908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4102200" y="3076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Picture 26" descr=""/>
          <p:cNvPicPr/>
          <p:nvPr/>
        </p:nvPicPr>
        <p:blipFill>
          <a:blip r:embed="rId2"/>
          <a:stretch/>
        </p:blipFill>
        <p:spPr>
          <a:xfrm>
            <a:off x="8529480" y="28195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7" descr=""/>
          <p:cNvPicPr/>
          <p:nvPr/>
        </p:nvPicPr>
        <p:blipFill>
          <a:blip r:embed="rId3"/>
          <a:stretch/>
        </p:blipFill>
        <p:spPr>
          <a:xfrm>
            <a:off x="8515440" y="3533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9" descr=""/>
          <p:cNvPicPr/>
          <p:nvPr/>
        </p:nvPicPr>
        <p:blipFill>
          <a:blip r:embed="rId4"/>
          <a:stretch/>
        </p:blipFill>
        <p:spPr>
          <a:xfrm>
            <a:off x="8515440" y="41241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2"/>
          <p:cNvSpPr/>
          <p:nvPr/>
        </p:nvSpPr>
        <p:spPr>
          <a:xfrm>
            <a:off x="4745160" y="44388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 Box 33"/>
          <p:cNvSpPr/>
          <p:nvPr/>
        </p:nvSpPr>
        <p:spPr>
          <a:xfrm>
            <a:off x="3916440" y="43894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34"/>
          <p:cNvSpPr/>
          <p:nvPr/>
        </p:nvSpPr>
        <p:spPr>
          <a:xfrm>
            <a:off x="6116760" y="3922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16" descr="2839230-1597x2400"/>
          <p:cNvPicPr/>
          <p:nvPr/>
        </p:nvPicPr>
        <p:blipFill>
          <a:blip r:embed="rId2"/>
          <a:stretch/>
        </p:blipFill>
        <p:spPr>
          <a:xfrm>
            <a:off x="6095880" y="3738600"/>
            <a:ext cx="2505240" cy="166536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 comma to set off certain introductory eleme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533520" y="2909880"/>
            <a:ext cx="7883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ell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ave you girls finished with that mural ye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523800" y="4562640"/>
            <a:ext cx="51307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Yes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oni just finished painting her par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533520" y="233856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Mild exclamations such as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well,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oh,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or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2279520" y="19080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8"/>
          <p:cNvSpPr/>
          <p:nvPr/>
        </p:nvSpPr>
        <p:spPr>
          <a:xfrm>
            <a:off x="509760" y="3621240"/>
            <a:ext cx="546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roductory words such as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ye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 and </a:t>
            </a:r>
            <a:r>
              <a:rPr b="1" i="1" lang="en-US" sz="2400" spc="-1" strike="noStrike">
                <a:solidFill>
                  <a:srgbClr val="ff9900"/>
                </a:solidFill>
                <a:latin typeface="Verdan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Picture 9" descr=""/>
          <p:cNvPicPr/>
          <p:nvPr/>
        </p:nvPicPr>
        <p:blipFill>
          <a:blip r:embed="rId4"/>
          <a:stretch/>
        </p:blipFill>
        <p:spPr>
          <a:xfrm>
            <a:off x="8596440" y="32796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14">
            <a:hlinkClick r:id="rId5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a comma to set off certain introductory eleme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533520" y="2940120"/>
            <a:ext cx="78199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ignaling for a timeout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the coach gathered her play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546120" y="233856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Introductory participial phr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528480" y="5092560"/>
            <a:ext cx="78249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t the conclusion of the first half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her team was trailing by four point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528480" y="4129200"/>
            <a:ext cx="78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wo or more introductory prepositional phra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or one long on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8">
            <a:hlinkClick r:id="rId2" action="ppaction://hlinksldjump"/>
          </p:cNvPr>
          <p:cNvSpPr/>
          <p:nvPr/>
        </p:nvSpPr>
        <p:spPr>
          <a:xfrm>
            <a:off x="507960" y="4572000"/>
            <a:ext cx="1501920" cy="380880"/>
          </a:xfrm>
          <a:custGeom>
            <a:avLst/>
            <a:gdLst>
              <a:gd name="textAreaLeft" fmla="*/ 24480 w 1501920"/>
              <a:gd name="textAreaRight" fmla="*/ 1477440 w 15019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5115" h="21600">
                <a:moveTo>
                  <a:pt x="0" y="0"/>
                </a:moveTo>
                <a:lnTo>
                  <a:pt x="85115" y="0"/>
                </a:lnTo>
                <a:lnTo>
                  <a:pt x="85115" y="21600"/>
                </a:lnTo>
                <a:lnTo>
                  <a:pt x="0" y="21600"/>
                </a:lnTo>
                <a:close/>
              </a:path>
              <a:path fill="lightenLess" w="85115" h="21600">
                <a:moveTo>
                  <a:pt x="0" y="0"/>
                </a:moveTo>
                <a:lnTo>
                  <a:pt x="85115" y="0"/>
                </a:lnTo>
                <a:lnTo>
                  <a:pt x="83715" y="1400"/>
                </a:lnTo>
                <a:lnTo>
                  <a:pt x="1400" y="1400"/>
                </a:lnTo>
                <a:close/>
              </a:path>
              <a:path fill="darken" w="85115" h="21600">
                <a:moveTo>
                  <a:pt x="85115" y="0"/>
                </a:moveTo>
                <a:lnTo>
                  <a:pt x="85115" y="21600"/>
                </a:lnTo>
                <a:lnTo>
                  <a:pt x="83715" y="20200"/>
                </a:lnTo>
                <a:lnTo>
                  <a:pt x="83715" y="1400"/>
                </a:lnTo>
                <a:close/>
              </a:path>
              <a:path fill="darkenLess" w="85115" h="21600">
                <a:moveTo>
                  <a:pt x="85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715" y="20200"/>
                </a:lnTo>
                <a:close/>
              </a:path>
              <a:path fill="lighten" w="85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AutoShape 9">
            <a:hlinkClick r:id="rId3" action="ppaction://hlinksldjump"/>
          </p:cNvPr>
          <p:cNvSpPr/>
          <p:nvPr/>
        </p:nvSpPr>
        <p:spPr>
          <a:xfrm>
            <a:off x="2857680" y="2349360"/>
            <a:ext cx="3288960" cy="457200"/>
          </a:xfrm>
          <a:custGeom>
            <a:avLst/>
            <a:gdLst>
              <a:gd name="textAreaLeft" fmla="*/ 29520 w 3288960"/>
              <a:gd name="textAreaRight" fmla="*/ 3259440 w 32889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55279" h="21600">
                <a:moveTo>
                  <a:pt x="0" y="0"/>
                </a:moveTo>
                <a:lnTo>
                  <a:pt x="155279" y="0"/>
                </a:lnTo>
                <a:lnTo>
                  <a:pt x="155279" y="21600"/>
                </a:lnTo>
                <a:lnTo>
                  <a:pt x="0" y="21600"/>
                </a:lnTo>
                <a:close/>
              </a:path>
              <a:path fill="lightenLess" w="155279" h="21600">
                <a:moveTo>
                  <a:pt x="0" y="0"/>
                </a:moveTo>
                <a:lnTo>
                  <a:pt x="155279" y="0"/>
                </a:lnTo>
                <a:lnTo>
                  <a:pt x="153879" y="1400"/>
                </a:lnTo>
                <a:lnTo>
                  <a:pt x="1400" y="1400"/>
                </a:lnTo>
                <a:close/>
              </a:path>
              <a:path fill="darken" w="155279" h="21600">
                <a:moveTo>
                  <a:pt x="155279" y="0"/>
                </a:moveTo>
                <a:lnTo>
                  <a:pt x="155279" y="21600"/>
                </a:lnTo>
                <a:lnTo>
                  <a:pt x="153879" y="20200"/>
                </a:lnTo>
                <a:lnTo>
                  <a:pt x="153879" y="1400"/>
                </a:lnTo>
                <a:close/>
              </a:path>
              <a:path fill="darkenLess" w="155279" h="21600">
                <a:moveTo>
                  <a:pt x="155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3879" y="20200"/>
                </a:lnTo>
                <a:close/>
              </a:path>
              <a:path fill="lighten" w="155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2" name="Picture 10" descr=""/>
          <p:cNvPicPr/>
          <p:nvPr/>
        </p:nvPicPr>
        <p:blipFill>
          <a:blip r:embed="rId4"/>
          <a:stretch/>
        </p:blipFill>
        <p:spPr>
          <a:xfrm>
            <a:off x="8604360" y="368604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528480" y="1297080"/>
            <a:ext cx="80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o remember all the reasons to use commas, think of the word “LIES”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5" name="Picture 7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46120" y="613728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10"/>
          <p:cNvSpPr/>
          <p:nvPr/>
        </p:nvSpPr>
        <p:spPr>
          <a:xfrm>
            <a:off x="696600" y="23083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734760" y="307332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Text Box 12"/>
          <p:cNvSpPr/>
          <p:nvPr/>
        </p:nvSpPr>
        <p:spPr>
          <a:xfrm>
            <a:off x="714240" y="390204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Text Box 13"/>
          <p:cNvSpPr/>
          <p:nvPr/>
        </p:nvSpPr>
        <p:spPr>
          <a:xfrm>
            <a:off x="728640" y="46069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1167120" y="2541600"/>
            <a:ext cx="175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ists of item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Text Box 15"/>
          <p:cNvSpPr/>
          <p:nvPr/>
        </p:nvSpPr>
        <p:spPr>
          <a:xfrm>
            <a:off x="1033560" y="3332160"/>
            <a:ext cx="186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ntroduc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Text Box 16"/>
          <p:cNvSpPr/>
          <p:nvPr/>
        </p:nvSpPr>
        <p:spPr>
          <a:xfrm>
            <a:off x="1213920" y="4098960"/>
            <a:ext cx="233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xtra inform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1172160" y="4827600"/>
            <a:ext cx="310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9900"/>
                </a:solidFill>
                <a:latin typeface="Verdana"/>
              </a:rPr>
              <a:t>entences pu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3"/>
          <p:cNvSpPr/>
          <p:nvPr/>
        </p:nvSpPr>
        <p:spPr>
          <a:xfrm>
            <a:off x="3541680" y="2524680"/>
            <a:ext cx="4765680" cy="4291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Bring a hat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gloves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and a scarf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24"/>
          <p:cNvSpPr/>
          <p:nvPr/>
        </p:nvSpPr>
        <p:spPr>
          <a:xfrm>
            <a:off x="3541680" y="3265920"/>
            <a:ext cx="4765680" cy="429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Yes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that is a card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Rectangle 25"/>
          <p:cNvSpPr/>
          <p:nvPr/>
        </p:nvSpPr>
        <p:spPr>
          <a:xfrm>
            <a:off x="3738600" y="4080600"/>
            <a:ext cx="4567320" cy="429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an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of course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was late aga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Rectangle 26"/>
          <p:cNvSpPr/>
          <p:nvPr/>
        </p:nvSpPr>
        <p:spPr>
          <a:xfrm>
            <a:off x="4506840" y="4847400"/>
            <a:ext cx="3781440" cy="429120"/>
          </a:xfrm>
          <a:prstGeom prst="rect">
            <a:avLst/>
          </a:prstGeom>
          <a:solidFill>
            <a:srgbClr val="7878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 was tired</a:t>
            </a:r>
            <a:r>
              <a:rPr b="1" lang="en-US" sz="2200" spc="-1" strike="noStrike">
                <a:solidFill>
                  <a:srgbClr val="ff9900"/>
                </a:solidFill>
                <a:latin typeface="Verdana"/>
              </a:rPr>
              <a:t>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yet I staye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31" descr=""/>
          <p:cNvPicPr/>
          <p:nvPr/>
        </p:nvPicPr>
        <p:blipFill>
          <a:blip r:embed="rId4"/>
          <a:stretch/>
        </p:blipFill>
        <p:spPr>
          <a:xfrm>
            <a:off x="3656160" y="1889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2" descr=""/>
          <p:cNvPicPr/>
          <p:nvPr/>
        </p:nvPicPr>
        <p:blipFill>
          <a:blip r:embed="rId5"/>
          <a:stretch/>
        </p:blipFill>
        <p:spPr>
          <a:xfrm>
            <a:off x="8488440" y="2768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3" descr=""/>
          <p:cNvPicPr/>
          <p:nvPr/>
        </p:nvPicPr>
        <p:blipFill>
          <a:blip r:embed="rId6"/>
          <a:stretch/>
        </p:blipFill>
        <p:spPr>
          <a:xfrm>
            <a:off x="8488440" y="3473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4" descr=""/>
          <p:cNvPicPr/>
          <p:nvPr/>
        </p:nvPicPr>
        <p:blipFill>
          <a:blip r:embed="rId7"/>
          <a:stretch/>
        </p:blipFill>
        <p:spPr>
          <a:xfrm>
            <a:off x="8464680" y="424980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36">
            <a:hlinkClick r:id="rId8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2"/>
          <p:cNvSpPr/>
          <p:nvPr/>
        </p:nvSpPr>
        <p:spPr>
          <a:xfrm>
            <a:off x="528480" y="247644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evening he usually goes for a wal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533520" y="3079800"/>
            <a:ext cx="70387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n her way to school in the mornin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Roseanne was thinking about her pro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6" name="Picture 5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523800" y="4665600"/>
            <a:ext cx="702648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lthough he trained hard for a mon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rnesto could not break his own recor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9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2800" y="25066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7480" y="322092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1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38920" y="4092480"/>
            <a:ext cx="1030320" cy="42084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533520" y="4040280"/>
            <a:ext cx="702612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ll I think we should ask for hel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14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753320" y="4821120"/>
            <a:ext cx="1030320" cy="420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4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7869240" y="24764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 Box 9"/>
          <p:cNvSpPr/>
          <p:nvPr/>
        </p:nvSpPr>
        <p:spPr>
          <a:xfrm>
            <a:off x="533520" y="2514600"/>
            <a:ext cx="704376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evening he usually goes for a wal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10"/>
          <p:cNvSpPr/>
          <p:nvPr/>
        </p:nvSpPr>
        <p:spPr>
          <a:xfrm>
            <a:off x="533520" y="3156120"/>
            <a:ext cx="7061040" cy="10969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he single, short introductory prepositional phrase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In the evening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does not require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0"/>
          <p:cNvSpPr/>
          <p:nvPr/>
        </p:nvSpPr>
        <p:spPr>
          <a:xfrm>
            <a:off x="509760" y="2540160"/>
            <a:ext cx="703872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n her way to school in the morning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Roseanne was thinking about her projec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6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7"/>
          <p:cNvSpPr/>
          <p:nvPr/>
        </p:nvSpPr>
        <p:spPr>
          <a:xfrm>
            <a:off x="6153120" y="24670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AutoShape 9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533520" y="3562200"/>
            <a:ext cx="7061040" cy="822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wo or more introductory prepositional phrases should be followed by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0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04720" y="992160"/>
            <a:ext cx="80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parate items in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ries.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series is three or more items written one after another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8481960" y="344952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528480" y="227160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Word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533520" y="367992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hrase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3" name="Group 45"/>
          <p:cNvGrpSpPr/>
          <p:nvPr/>
        </p:nvGrpSpPr>
        <p:grpSpPr>
          <a:xfrm>
            <a:off x="533520" y="2801880"/>
            <a:ext cx="7819920" cy="825480"/>
            <a:chOff x="533520" y="2801880"/>
            <a:chExt cx="7819920" cy="825480"/>
          </a:xfrm>
        </p:grpSpPr>
        <p:sp>
          <p:nvSpPr>
            <p:cNvPr id="114" name="Text Box 5"/>
            <p:cNvSpPr/>
            <p:nvPr/>
          </p:nvSpPr>
          <p:spPr>
            <a:xfrm>
              <a:off x="533520" y="2801880"/>
              <a:ext cx="781992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On the trail we saw chipmunks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woodpeckers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and snake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Line 32"/>
            <p:cNvSpPr/>
            <p:nvPr/>
          </p:nvSpPr>
          <p:spPr>
            <a:xfrm>
              <a:off x="3718080" y="3217680"/>
              <a:ext cx="162396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33"/>
            <p:cNvSpPr/>
            <p:nvPr/>
          </p:nvSpPr>
          <p:spPr>
            <a:xfrm>
              <a:off x="5580000" y="3216240"/>
              <a:ext cx="20322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1285920" y="3558960"/>
              <a:ext cx="1047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8" name="Group 44"/>
          <p:cNvGrpSpPr/>
          <p:nvPr/>
        </p:nvGrpSpPr>
        <p:grpSpPr>
          <a:xfrm>
            <a:off x="533520" y="4227480"/>
            <a:ext cx="7819920" cy="825480"/>
            <a:chOff x="533520" y="4227480"/>
            <a:chExt cx="7819920" cy="825480"/>
          </a:xfrm>
        </p:grpSpPr>
        <p:sp>
          <p:nvSpPr>
            <p:cNvPr id="119" name="Text Box 18"/>
            <p:cNvSpPr/>
            <p:nvPr/>
          </p:nvSpPr>
          <p:spPr>
            <a:xfrm>
              <a:off x="533520" y="4227480"/>
              <a:ext cx="781992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We drove along the highway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up the mountain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and into the woods to visit the nature center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Line 35"/>
            <p:cNvSpPr/>
            <p:nvPr/>
          </p:nvSpPr>
          <p:spPr>
            <a:xfrm>
              <a:off x="5235480" y="4633920"/>
              <a:ext cx="25686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Line 36"/>
            <p:cNvSpPr/>
            <p:nvPr/>
          </p:nvSpPr>
          <p:spPr>
            <a:xfrm>
              <a:off x="2228760" y="4626000"/>
              <a:ext cx="2765520" cy="1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Line 37"/>
            <p:cNvSpPr/>
            <p:nvPr/>
          </p:nvSpPr>
          <p:spPr>
            <a:xfrm>
              <a:off x="1300320" y="4987800"/>
              <a:ext cx="22510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23" name="Picture 40" descr=""/>
          <p:cNvPicPr/>
          <p:nvPr/>
        </p:nvPicPr>
        <p:blipFill>
          <a:blip r:embed="rId3"/>
          <a:stretch/>
        </p:blipFill>
        <p:spPr>
          <a:xfrm>
            <a:off x="2108160" y="198108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2120" y="61610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48">
            <a:hlinkClick r:id="rId6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0"/>
          <p:cNvSpPr/>
          <p:nvPr/>
        </p:nvSpPr>
        <p:spPr>
          <a:xfrm>
            <a:off x="533520" y="2533680"/>
            <a:ext cx="7026120" cy="511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ll I think we should ask for hel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5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Picture 6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8"/>
          <p:cNvSpPr/>
          <p:nvPr/>
        </p:nvSpPr>
        <p:spPr>
          <a:xfrm>
            <a:off x="1571760" y="24796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AutoShape 9">
            <a:hlinkClick r:id="rId3" action="ppaction://hlinksldjump"/>
          </p:cNvPr>
          <p:cNvSpPr/>
          <p:nvPr/>
        </p:nvSpPr>
        <p:spPr>
          <a:xfrm>
            <a:off x="3009960" y="604368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533520" y="3173400"/>
            <a:ext cx="7061040" cy="82224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Mild exclamations such as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well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are set off by a comma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0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9"/>
          <p:cNvSpPr/>
          <p:nvPr/>
        </p:nvSpPr>
        <p:spPr>
          <a:xfrm>
            <a:off x="509760" y="2630520"/>
            <a:ext cx="70261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lthough he trained hard for a mon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Ernesto could not break his own recor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28480" y="1297080"/>
            <a:ext cx="806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2"/>
          <a:stretch/>
        </p:blipFill>
        <p:spPr>
          <a:xfrm>
            <a:off x="528480" y="13064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7"/>
          <p:cNvSpPr/>
          <p:nvPr/>
        </p:nvSpPr>
        <p:spPr>
          <a:xfrm>
            <a:off x="6257880" y="255600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AutoShape 8">
            <a:hlinkClick r:id="rId3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528480" y="3614760"/>
            <a:ext cx="6999480" cy="11430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lthough he trained hard for a month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 is an introductory adverb clause and should be set off by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Picture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4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71680" y="99072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Text Box 6"/>
          <p:cNvSpPr/>
          <p:nvPr/>
        </p:nvSpPr>
        <p:spPr>
          <a:xfrm>
            <a:off x="528480" y="1398600"/>
            <a:ext cx="7824960" cy="351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corner of the room a night light showed the way to the do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y that’s a beautiful ring you’re wea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Because the snow cover was so thin the deer had no trouble finding foo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miling from ear to ear Monica told us the ne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Rectangle 10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Rectangle 11">
            <a:hlinkClick r:id="rId5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4"/>
          <p:cNvSpPr/>
          <p:nvPr/>
        </p:nvSpPr>
        <p:spPr>
          <a:xfrm>
            <a:off x="533520" y="981000"/>
            <a:ext cx="15588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528480" y="1398600"/>
            <a:ext cx="7824960" cy="351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n the corner of the room a night light showed the way to the door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hy that’s a beautiful ring you’re wear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Because the snow cover was so thin the deer had no trouble finding food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miling from ear to ear Monica told us the new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ntroductory e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71680" y="99072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4546440" y="222552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1573200" y="30956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075360" y="3565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8582040" y="27162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8596440" y="323676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"/>
          <p:cNvPicPr/>
          <p:nvPr/>
        </p:nvPicPr>
        <p:blipFill>
          <a:blip r:embed="rId4"/>
          <a:stretch/>
        </p:blipFill>
        <p:spPr>
          <a:xfrm>
            <a:off x="8582040" y="411624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5"/>
          <p:cNvSpPr/>
          <p:nvPr/>
        </p:nvSpPr>
        <p:spPr>
          <a:xfrm>
            <a:off x="4248000" y="440532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6" descr="3169176-2250x1500"/>
          <p:cNvPicPr/>
          <p:nvPr/>
        </p:nvPicPr>
        <p:blipFill>
          <a:blip r:embed="rId2"/>
          <a:srcRect l="0" t="11333" r="0" b="13732"/>
          <a:stretch/>
        </p:blipFill>
        <p:spPr>
          <a:xfrm>
            <a:off x="6772320" y="2933640"/>
            <a:ext cx="1819080" cy="20448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528480" y="12952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in certain conventional situ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 Box 32"/>
          <p:cNvSpPr/>
          <p:nvPr/>
        </p:nvSpPr>
        <p:spPr>
          <a:xfrm>
            <a:off x="533520" y="2975040"/>
            <a:ext cx="5956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A letter dated November 26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1888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was found in the old house at 980 West Street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Davenport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Iowa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 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yesterda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 Box 33"/>
          <p:cNvSpPr/>
          <p:nvPr/>
        </p:nvSpPr>
        <p:spPr>
          <a:xfrm>
            <a:off x="528480" y="1995480"/>
            <a:ext cx="58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parate items in dates and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5" name="Picture 36" descr=""/>
          <p:cNvPicPr/>
          <p:nvPr/>
        </p:nvPicPr>
        <p:blipFill>
          <a:blip r:embed="rId3"/>
          <a:stretch/>
        </p:blipFill>
        <p:spPr>
          <a:xfrm>
            <a:off x="8061480" y="1514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4">
            <a:hlinkClick r:id="rId4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"/>
                            </p:stCondLst>
                            <p:childTnLst>
                              <p:par>
                                <p:cTn id="98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528480" y="12952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in certain conventional situ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533520" y="2673360"/>
            <a:ext cx="3197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Dear Grandfather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28480" y="2008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fter the salutation of a personal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3063960" y="3660840"/>
            <a:ext cx="55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After the closing of any l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040280" y="2673360"/>
            <a:ext cx="2977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My dear Rosaly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102120" y="4336920"/>
            <a:ext cx="287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Sincerely yours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11"/>
          <p:cNvSpPr/>
          <p:nvPr/>
        </p:nvSpPr>
        <p:spPr>
          <a:xfrm>
            <a:off x="6119640" y="4338720"/>
            <a:ext cx="1930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With love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5" name="Picture 12" descr=""/>
          <p:cNvPicPr/>
          <p:nvPr/>
        </p:nvPicPr>
        <p:blipFill>
          <a:blip r:embed="rId2"/>
          <a:stretch/>
        </p:blipFill>
        <p:spPr>
          <a:xfrm>
            <a:off x="7196040" y="30132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"/>
          <p:cNvPicPr/>
          <p:nvPr/>
        </p:nvPicPr>
        <p:blipFill>
          <a:blip r:embed="rId3"/>
          <a:stretch/>
        </p:blipFill>
        <p:spPr>
          <a:xfrm>
            <a:off x="809640" y="3409920"/>
            <a:ext cx="1942920" cy="2481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46120" y="613728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7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0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0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528480" y="2476440"/>
            <a:ext cx="70311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was signed “Best regards Cindy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urphy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345276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ur new address is 1808 Jackson Drive,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mes, Iow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528480" y="443376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adopted our cat in Dallas Texas on May 9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23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4" name="Picture 24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5" descr=""/>
          <p:cNvPicPr/>
          <p:nvPr/>
        </p:nvPicPr>
        <p:blipFill>
          <a:blip r:embed="rId3"/>
          <a:stretch/>
        </p:blipFill>
        <p:spPr>
          <a:xfrm>
            <a:off x="7732800" y="2693880"/>
            <a:ext cx="1030320" cy="4208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6" descr=""/>
          <p:cNvPicPr/>
          <p:nvPr/>
        </p:nvPicPr>
        <p:blipFill>
          <a:blip r:embed="rId4"/>
          <a:stretch/>
        </p:blipFill>
        <p:spPr>
          <a:xfrm>
            <a:off x="7719840" y="367992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7" descr=""/>
          <p:cNvPicPr/>
          <p:nvPr/>
        </p:nvPicPr>
        <p:blipFill>
          <a:blip r:embed="rId5"/>
          <a:stretch/>
        </p:blipFill>
        <p:spPr>
          <a:xfrm>
            <a:off x="7732800" y="4556160"/>
            <a:ext cx="1030320" cy="42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7"/>
          <p:cNvSpPr/>
          <p:nvPr/>
        </p:nvSpPr>
        <p:spPr>
          <a:xfrm>
            <a:off x="533520" y="2525760"/>
            <a:ext cx="703080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was signed “Best regards Cindy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Murphy.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Text Box 12"/>
          <p:cNvSpPr/>
          <p:nvPr/>
        </p:nvSpPr>
        <p:spPr>
          <a:xfrm>
            <a:off x="5989680" y="250524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 Box 21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22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8"/>
          <p:cNvSpPr/>
          <p:nvPr/>
        </p:nvSpPr>
        <p:spPr>
          <a:xfrm>
            <a:off x="533520" y="3529080"/>
            <a:ext cx="7049880" cy="457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a comma after the closing of any lett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6"/>
          <p:cNvSpPr/>
          <p:nvPr/>
        </p:nvSpPr>
        <p:spPr>
          <a:xfrm>
            <a:off x="7758000" y="2627280"/>
            <a:ext cx="33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Text Box 21"/>
          <p:cNvSpPr/>
          <p:nvPr/>
        </p:nvSpPr>
        <p:spPr>
          <a:xfrm>
            <a:off x="528480" y="1297080"/>
            <a:ext cx="80694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7" name="Picture 22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58" name="AutoShape 25"/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Text Box 26"/>
          <p:cNvSpPr/>
          <p:nvPr/>
        </p:nvSpPr>
        <p:spPr>
          <a:xfrm>
            <a:off x="509760" y="2548080"/>
            <a:ext cx="704340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Our new address is 1808 Jackson Drive,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mes, Iow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Rectangle 27"/>
          <p:cNvSpPr/>
          <p:nvPr/>
        </p:nvSpPr>
        <p:spPr>
          <a:xfrm>
            <a:off x="533520" y="3554280"/>
            <a:ext cx="6999120" cy="4572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a comma to separate items in address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5"/>
          <p:cNvSpPr/>
          <p:nvPr/>
        </p:nvSpPr>
        <p:spPr>
          <a:xfrm>
            <a:off x="509760" y="2517840"/>
            <a:ext cx="7043400" cy="85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We adopted our cat in Dallas Texas on May 9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528480" y="1297080"/>
            <a:ext cx="80694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4" name="Picture 22" descr=""/>
          <p:cNvPicPr/>
          <p:nvPr/>
        </p:nvPicPr>
        <p:blipFill>
          <a:blip r:embed="rId2"/>
          <a:stretch/>
        </p:blipFill>
        <p:spPr>
          <a:xfrm>
            <a:off x="528480" y="131112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9"/>
          <p:cNvSpPr/>
          <p:nvPr/>
        </p:nvSpPr>
        <p:spPr>
          <a:xfrm>
            <a:off x="5029200" y="244152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Text Box 13"/>
          <p:cNvSpPr/>
          <p:nvPr/>
        </p:nvSpPr>
        <p:spPr>
          <a:xfrm>
            <a:off x="5911920" y="246708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Text Box 14"/>
          <p:cNvSpPr/>
          <p:nvPr/>
        </p:nvSpPr>
        <p:spPr>
          <a:xfrm>
            <a:off x="7283520" y="2433600"/>
            <a:ext cx="434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1749"/>
              </a:spcBef>
              <a:spcAft>
                <a:spcPts val="174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AutoShape 24"/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Rectangle 26"/>
          <p:cNvSpPr/>
          <p:nvPr/>
        </p:nvSpPr>
        <p:spPr>
          <a:xfrm>
            <a:off x="533520" y="3562200"/>
            <a:ext cx="6999120" cy="82260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Use a comma to separate items in addresses and 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OS39085"/>
          <p:cNvPicPr/>
          <p:nvPr/>
        </p:nvPicPr>
        <p:blipFill>
          <a:blip r:embed="rId2"/>
          <a:stretch/>
        </p:blipFill>
        <p:spPr>
          <a:xfrm>
            <a:off x="444600" y="2130480"/>
            <a:ext cx="2727360" cy="37497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4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uy Says..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6"/>
          <p:cNvSpPr/>
          <p:nvPr/>
        </p:nvSpPr>
        <p:spPr>
          <a:xfrm>
            <a:off x="3203640" y="1359000"/>
            <a:ext cx="5149800" cy="1208160"/>
          </a:xfrm>
          <a:prstGeom prst="wedgeRoundRectCallout">
            <a:avLst>
              <a:gd name="adj1" fmla="val -65166"/>
              <a:gd name="adj2" fmla="val 112680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f all items in a series are joined by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and, or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or </a:t>
            </a:r>
            <a:r>
              <a:rPr b="0" i="1" lang="en-US" sz="2200" spc="-1" strike="noStrike">
                <a:solidFill>
                  <a:srgbClr val="ffff99"/>
                </a:solidFill>
                <a:latin typeface="Verdana"/>
              </a:rPr>
              <a:t>nor, 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do not use commas to separate th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pic>
        <p:nvPicPr>
          <p:cNvPr id="131" name="Picture 12" descr=""/>
          <p:cNvPicPr/>
          <p:nvPr/>
        </p:nvPicPr>
        <p:blipFill>
          <a:blip r:embed="rId6"/>
          <a:stretch/>
        </p:blipFill>
        <p:spPr>
          <a:xfrm>
            <a:off x="8601120" y="2467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"/>
          <p:cNvPicPr/>
          <p:nvPr/>
        </p:nvPicPr>
        <p:blipFill>
          <a:blip r:embed="rId7"/>
          <a:stretch/>
        </p:blipFill>
        <p:spPr>
          <a:xfrm>
            <a:off x="8529480" y="3925800"/>
            <a:ext cx="133560" cy="889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6"/>
          <p:cNvSpPr/>
          <p:nvPr/>
        </p:nvSpPr>
        <p:spPr>
          <a:xfrm>
            <a:off x="3300480" y="3252960"/>
            <a:ext cx="5076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Shall we go bowling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or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rent a movie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or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listen to music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300480" y="4129200"/>
            <a:ext cx="5076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’ve seen snakes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and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lizards </a:t>
            </a:r>
            <a:r>
              <a:rPr b="1" lang="en-US" sz="2200" spc="-1" strike="noStrike">
                <a:solidFill>
                  <a:srgbClr val="330066"/>
                </a:solidFill>
                <a:latin typeface="Verdana"/>
              </a:rPr>
              <a:t>and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 toads in our yar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1" name="Picture 22" descr=""/>
          <p:cNvPicPr/>
          <p:nvPr/>
        </p:nvPicPr>
        <p:blipFill>
          <a:blip r:embed="rId2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23"/>
          <p:cNvSpPr/>
          <p:nvPr/>
        </p:nvSpPr>
        <p:spPr>
          <a:xfrm>
            <a:off x="533520" y="981000"/>
            <a:ext cx="22860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571680" y="9907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On Your 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528480" y="1398600"/>
            <a:ext cx="7824960" cy="333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Harvest Festival was on Friday November 16 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began “My dearest Janet How are the children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main office in Santa Barbara California has a new fax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Text Box 25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Rectangle 27"/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Rectangle 28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0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6"/>
          <p:cNvSpPr/>
          <p:nvPr/>
        </p:nvSpPr>
        <p:spPr>
          <a:xfrm>
            <a:off x="533520" y="981000"/>
            <a:ext cx="1571400" cy="12193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528480" y="1398600"/>
            <a:ext cx="7824960" cy="3336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dd commas where needed in the following sente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Harvest Festival is on Friday November 16 2007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letter began “My dearest Janet How are the children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375"/>
              </a:spcBef>
              <a:buClr>
                <a:srgbClr val="33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main office in Santa Barbara California has a new fax numbe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Conventional uses of comm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27"/>
          <p:cNvSpPr/>
          <p:nvPr/>
        </p:nvSpPr>
        <p:spPr>
          <a:xfrm>
            <a:off x="571680" y="990720"/>
            <a:ext cx="15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Answ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14"/>
          <p:cNvSpPr/>
          <p:nvPr/>
        </p:nvSpPr>
        <p:spPr>
          <a:xfrm>
            <a:off x="5576760" y="2224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15"/>
          <p:cNvSpPr/>
          <p:nvPr/>
        </p:nvSpPr>
        <p:spPr>
          <a:xfrm>
            <a:off x="7586640" y="219852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17"/>
          <p:cNvSpPr/>
          <p:nvPr/>
        </p:nvSpPr>
        <p:spPr>
          <a:xfrm>
            <a:off x="5932440" y="30639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Text Box 18"/>
          <p:cNvSpPr/>
          <p:nvPr/>
        </p:nvSpPr>
        <p:spPr>
          <a:xfrm>
            <a:off x="5605560" y="38768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34040" y="387684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7" name="Picture 31" descr=""/>
          <p:cNvPicPr/>
          <p:nvPr/>
        </p:nvPicPr>
        <p:blipFill>
          <a:blip r:embed="rId2"/>
          <a:stretch/>
        </p:blipFill>
        <p:spPr>
          <a:xfrm>
            <a:off x="8597880" y="2735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2" descr=""/>
          <p:cNvPicPr/>
          <p:nvPr/>
        </p:nvPicPr>
        <p:blipFill>
          <a:blip r:embed="rId3"/>
          <a:stretch/>
        </p:blipFill>
        <p:spPr>
          <a:xfrm>
            <a:off x="8597880" y="3459240"/>
            <a:ext cx="13320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0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528480" y="1297080"/>
            <a:ext cx="806940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little brother likes to draw castles dragons and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is mild, creamy cheese will taste good with th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re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 bought a new skirt but I haven’t worn it y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r. Reyes who teaches science at the high school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ill be our guest speaker to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1" name="Picture 23" descr=""/>
          <p:cNvPicPr/>
          <p:nvPr/>
        </p:nvPicPr>
        <p:blipFill>
          <a:blip r:embed="rId2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4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7"/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Rectangle 28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6"/>
          <p:cNvSpPr/>
          <p:nvPr/>
        </p:nvSpPr>
        <p:spPr>
          <a:xfrm>
            <a:off x="528480" y="1297080"/>
            <a:ext cx="8069400" cy="35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dd commas where necessary. If a sentence is correct, write 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1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little brother likes to draw castles dragons and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hors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2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is mild, creamy cheese will taste good with the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rea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3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I bought a new skirt but I haven’t worn it y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257480"/>
                <a:tab algn="l" pos="143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_____ 4.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r. Reyes who teaches science at the high school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ill be our guest speaker toda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2"/>
          <p:cNvSpPr/>
          <p:nvPr/>
        </p:nvSpPr>
        <p:spPr>
          <a:xfrm>
            <a:off x="533520" y="365040"/>
            <a:ext cx="8076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874800" y="2865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6500880" y="21686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Text Box 12"/>
          <p:cNvSpPr/>
          <p:nvPr/>
        </p:nvSpPr>
        <p:spPr>
          <a:xfrm>
            <a:off x="3029040" y="41101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8158320" y="4111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Text Box 15"/>
          <p:cNvSpPr/>
          <p:nvPr/>
        </p:nvSpPr>
        <p:spPr>
          <a:xfrm>
            <a:off x="7577280" y="21686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Text Box 16"/>
          <p:cNvSpPr/>
          <p:nvPr/>
        </p:nvSpPr>
        <p:spPr>
          <a:xfrm>
            <a:off x="4362480" y="3673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3" name="Picture 21" descr=""/>
          <p:cNvPicPr/>
          <p:nvPr/>
        </p:nvPicPr>
        <p:blipFill>
          <a:blip r:embed="rId2"/>
          <a:stretch/>
        </p:blipFill>
        <p:spPr>
          <a:xfrm>
            <a:off x="2932200" y="281772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2" descr=""/>
          <p:cNvPicPr/>
          <p:nvPr/>
        </p:nvPicPr>
        <p:blipFill>
          <a:blip r:embed="rId3"/>
          <a:stretch/>
        </p:blipFill>
        <p:spPr>
          <a:xfrm>
            <a:off x="2786040" y="3446640"/>
            <a:ext cx="133200" cy="885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8" descr=""/>
          <p:cNvPicPr/>
          <p:nvPr/>
        </p:nvPicPr>
        <p:blipFill>
          <a:blip r:embed="rId4"/>
          <a:stretch/>
        </p:blipFill>
        <p:spPr>
          <a:xfrm>
            <a:off x="7796160" y="378936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0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6657840" y="560088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[End of Section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528480" y="1297080"/>
            <a:ext cx="80694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d commas where necessary in the following senten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squirrel ran over the lawn up the tree and onto a high bran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beaver a rodent builds dams out of sticks and m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rching for more than an hour the scouts often lost their form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nday October 13 2008 was my grandparents’ golden wedding anniversar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oldest sister Kate sent a postcard from Tokyo Jap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9" name="Picture 35" descr=""/>
          <p:cNvPicPr/>
          <p:nvPr/>
        </p:nvPicPr>
        <p:blipFill>
          <a:blip r:embed="rId2"/>
          <a:stretch/>
        </p:blipFill>
        <p:spPr>
          <a:xfrm>
            <a:off x="4056120" y="54705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610" name="Rectangle 38"/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Rectangle 39"/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0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34"/>
          <p:cNvSpPr/>
          <p:nvPr/>
        </p:nvSpPr>
        <p:spPr>
          <a:xfrm>
            <a:off x="528480" y="1297080"/>
            <a:ext cx="80694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dd commas where necessary in the following sentenc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squirrel ran over the lawn up the tree and onto a high branc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he beaver a rodent builds dams out of sticks and mu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arching for more than an hour the scouts often lost their form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onday October 13 2008 was my grandparents’ golden wedding anniversary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342720">
              <a:lnSpc>
                <a:spcPct val="100000"/>
              </a:lnSpc>
              <a:spcBef>
                <a:spcPts val="1250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y oldest sister Kate sent a postcard from Tokyo Jap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Review B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4853160" y="17575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10"/>
          <p:cNvSpPr/>
          <p:nvPr/>
        </p:nvSpPr>
        <p:spPr>
          <a:xfrm>
            <a:off x="6340320" y="1749600"/>
            <a:ext cx="3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Text Box 11"/>
          <p:cNvSpPr/>
          <p:nvPr/>
        </p:nvSpPr>
        <p:spPr>
          <a:xfrm>
            <a:off x="5033880" y="296856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Text Box 12"/>
          <p:cNvSpPr/>
          <p:nvPr/>
        </p:nvSpPr>
        <p:spPr>
          <a:xfrm>
            <a:off x="2978280" y="44910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3462480" y="36702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355840" y="2494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3552840" y="2503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1" name="Picture 28" descr=""/>
          <p:cNvPicPr/>
          <p:nvPr/>
        </p:nvPicPr>
        <p:blipFill>
          <a:blip r:embed="rId2"/>
          <a:stretch/>
        </p:blipFill>
        <p:spPr>
          <a:xfrm>
            <a:off x="8315280" y="2714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9" descr=""/>
          <p:cNvPicPr/>
          <p:nvPr/>
        </p:nvPicPr>
        <p:blipFill>
          <a:blip r:embed="rId3"/>
          <a:stretch/>
        </p:blipFill>
        <p:spPr>
          <a:xfrm>
            <a:off x="3251160" y="34257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0" descr=""/>
          <p:cNvPicPr/>
          <p:nvPr/>
        </p:nvPicPr>
        <p:blipFill>
          <a:blip r:embed="rId4"/>
          <a:stretch/>
        </p:blipFill>
        <p:spPr>
          <a:xfrm>
            <a:off x="4003560" y="427680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1" descr=""/>
          <p:cNvPicPr/>
          <p:nvPr/>
        </p:nvPicPr>
        <p:blipFill>
          <a:blip r:embed="rId5"/>
          <a:stretch/>
        </p:blipFill>
        <p:spPr>
          <a:xfrm>
            <a:off x="2757600" y="22575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35"/>
          <p:cNvSpPr/>
          <p:nvPr/>
        </p:nvSpPr>
        <p:spPr>
          <a:xfrm>
            <a:off x="4203720" y="369108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Text Box 36"/>
          <p:cNvSpPr/>
          <p:nvPr/>
        </p:nvSpPr>
        <p:spPr>
          <a:xfrm>
            <a:off x="3656160" y="44798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Text Box 37"/>
          <p:cNvSpPr/>
          <p:nvPr/>
        </p:nvSpPr>
        <p:spPr>
          <a:xfrm>
            <a:off x="1924200" y="367344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38"/>
          <p:cNvSpPr/>
          <p:nvPr/>
        </p:nvSpPr>
        <p:spPr>
          <a:xfrm>
            <a:off x="7224840" y="4505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0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500"/>
                            </p:stCondLst>
                            <p:childTnLst>
                              <p:par>
                                <p:cTn id="1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00"/>
                            </p:stCondLst>
                            <p:childTnLst>
                              <p:par>
                                <p:cTn id="1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546120" y="2752560"/>
            <a:ext cx="8077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The E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1" descr="3199638-1525x2288"/>
          <p:cNvPicPr/>
          <p:nvPr/>
        </p:nvPicPr>
        <p:blipFill>
          <a:blip r:embed="rId2"/>
          <a:stretch/>
        </p:blipFill>
        <p:spPr>
          <a:xfrm>
            <a:off x="2732040" y="3683160"/>
            <a:ext cx="3317760" cy="22111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509760" y="2567160"/>
            <a:ext cx="7878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Please let me know when the barbecue will begin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who will be there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,</a:t>
            </a:r>
            <a:r>
              <a:rPr b="0" lang="en-US" sz="2400" spc="-1" strike="noStrike">
                <a:solidFill>
                  <a:srgbClr val="330066"/>
                </a:solidFill>
                <a:latin typeface="Verdana"/>
              </a:rPr>
              <a:t> and when it will be ov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3686040" y="2954160"/>
            <a:ext cx="4408560" cy="18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627120" y="3335400"/>
            <a:ext cx="25686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26"/>
          <p:cNvSpPr/>
          <p:nvPr/>
        </p:nvSpPr>
        <p:spPr>
          <a:xfrm>
            <a:off x="4145040" y="3322800"/>
            <a:ext cx="2940120" cy="14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parate items in a se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523800" y="196524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lauses in a se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69">
            <a:hlinkClick r:id="rId3" action="ppaction://hlinksldjump"/>
          </p:cNvPr>
          <p:cNvSpPr/>
          <p:nvPr/>
        </p:nvSpPr>
        <p:spPr>
          <a:xfrm>
            <a:off x="3164040" y="6135840"/>
            <a:ext cx="1250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8480" y="1297080"/>
            <a:ext cx="80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se commas to separate items in a ser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8515440" y="323676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5"/>
          <p:cNvSpPr/>
          <p:nvPr/>
        </p:nvSpPr>
        <p:spPr>
          <a:xfrm>
            <a:off x="533520" y="346068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wo or more adjectives before a no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2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01880" y="6162840"/>
            <a:ext cx="1622160" cy="339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2440" y="6141960"/>
            <a:ext cx="590400" cy="33984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26"/>
          <p:cNvGrpSpPr/>
          <p:nvPr/>
        </p:nvGrpSpPr>
        <p:grpSpPr>
          <a:xfrm>
            <a:off x="533520" y="2441520"/>
            <a:ext cx="7819920" cy="825480"/>
            <a:chOff x="533520" y="2441520"/>
            <a:chExt cx="7819920" cy="825480"/>
          </a:xfrm>
        </p:grpSpPr>
        <p:sp>
          <p:nvSpPr>
            <p:cNvPr id="151" name="Text Box 27"/>
            <p:cNvSpPr/>
            <p:nvPr/>
          </p:nvSpPr>
          <p:spPr>
            <a:xfrm>
              <a:off x="533520" y="2441520"/>
              <a:ext cx="781992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The lights dimmed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00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the curtain rose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0033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and the orchestra began to play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Line 28"/>
            <p:cNvSpPr/>
            <p:nvPr/>
          </p:nvSpPr>
          <p:spPr>
            <a:xfrm>
              <a:off x="628560" y="2854440"/>
              <a:ext cx="28069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Line 29"/>
            <p:cNvSpPr/>
            <p:nvPr/>
          </p:nvSpPr>
          <p:spPr>
            <a:xfrm>
              <a:off x="3622680" y="2854440"/>
              <a:ext cx="249408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Line 30"/>
            <p:cNvSpPr/>
            <p:nvPr/>
          </p:nvSpPr>
          <p:spPr>
            <a:xfrm>
              <a:off x="647640" y="3197160"/>
              <a:ext cx="357984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Line 31"/>
            <p:cNvSpPr/>
            <p:nvPr/>
          </p:nvSpPr>
          <p:spPr>
            <a:xfrm>
              <a:off x="7008840" y="2854440"/>
              <a:ext cx="53640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Text Box 32"/>
          <p:cNvSpPr/>
          <p:nvPr/>
        </p:nvSpPr>
        <p:spPr>
          <a:xfrm>
            <a:off x="533520" y="193356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hort independent clau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7" name="Group 37"/>
          <p:cNvGrpSpPr/>
          <p:nvPr/>
        </p:nvGrpSpPr>
        <p:grpSpPr>
          <a:xfrm>
            <a:off x="533520" y="3989520"/>
            <a:ext cx="7824600" cy="825480"/>
            <a:chOff x="533520" y="3989520"/>
            <a:chExt cx="7824600" cy="825480"/>
          </a:xfrm>
        </p:grpSpPr>
        <p:sp>
          <p:nvSpPr>
            <p:cNvPr id="158" name="Text Box 14"/>
            <p:cNvSpPr/>
            <p:nvPr/>
          </p:nvSpPr>
          <p:spPr>
            <a:xfrm>
              <a:off x="533520" y="3989520"/>
              <a:ext cx="782460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On the doorstep she found a huge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 beautiful</a:t>
              </a:r>
              <a:r>
                <a:rPr b="1" lang="en-US" sz="2400" spc="-1" strike="noStrike">
                  <a:solidFill>
                    <a:srgbClr val="ff9900"/>
                  </a:solidFill>
                  <a:latin typeface="Verdana"/>
                </a:rPr>
                <a:t>, </a:t>
              </a: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fragrant bouquet of flowers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6"/>
            <p:cNvSpPr/>
            <p:nvPr/>
          </p:nvSpPr>
          <p:spPr>
            <a:xfrm>
              <a:off x="5146560" y="4440240"/>
              <a:ext cx="763560" cy="144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7"/>
            <p:cNvSpPr/>
            <p:nvPr/>
          </p:nvSpPr>
          <p:spPr>
            <a:xfrm>
              <a:off x="6107040" y="4427640"/>
              <a:ext cx="13255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533520" y="4751280"/>
              <a:ext cx="13255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Group 38"/>
          <p:cNvGrpSpPr/>
          <p:nvPr/>
        </p:nvGrpSpPr>
        <p:grpSpPr>
          <a:xfrm>
            <a:off x="523800" y="4937040"/>
            <a:ext cx="7824960" cy="459720"/>
            <a:chOff x="523800" y="4937040"/>
            <a:chExt cx="7824960" cy="459720"/>
          </a:xfrm>
        </p:grpSpPr>
        <p:sp>
          <p:nvSpPr>
            <p:cNvPr id="163" name="Text Box 33"/>
            <p:cNvSpPr/>
            <p:nvPr/>
          </p:nvSpPr>
          <p:spPr>
            <a:xfrm>
              <a:off x="523800" y="4937040"/>
              <a:ext cx="78249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66"/>
                  </a:solidFill>
                  <a:latin typeface="Verdana"/>
                </a:rPr>
                <a:t>Use a clean, glass measuring cup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Line 35"/>
            <p:cNvSpPr/>
            <p:nvPr/>
          </p:nvSpPr>
          <p:spPr>
            <a:xfrm>
              <a:off x="1576440" y="5330880"/>
              <a:ext cx="8017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Line 36"/>
            <p:cNvSpPr/>
            <p:nvPr/>
          </p:nvSpPr>
          <p:spPr>
            <a:xfrm>
              <a:off x="2593800" y="5326200"/>
              <a:ext cx="801720" cy="0"/>
            </a:xfrm>
            <a:prstGeom prst="line">
              <a:avLst/>
            </a:prstGeom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Rectangle 40">
            <a:hlinkClick r:id="rId7" action="ppaction://hlinksldjump"/>
          </p:cNvPr>
          <p:cNvSpPr/>
          <p:nvPr/>
        </p:nvSpPr>
        <p:spPr>
          <a:xfrm>
            <a:off x="4519440" y="6110280"/>
            <a:ext cx="11811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OS39086"/>
          <p:cNvPicPr/>
          <p:nvPr/>
        </p:nvPicPr>
        <p:blipFill>
          <a:blip r:embed="rId2"/>
          <a:stretch/>
        </p:blipFill>
        <p:spPr>
          <a:xfrm>
            <a:off x="399960" y="2206800"/>
            <a:ext cx="2457720" cy="3377880"/>
          </a:xfrm>
          <a:prstGeom prst="rect">
            <a:avLst/>
          </a:prstGeom>
          <a:ln w="0">
            <a:noFill/>
          </a:ln>
        </p:spPr>
      </p:pic>
      <p:sp>
        <p:nvSpPr>
          <p:cNvPr id="168" name="WordArt 4"/>
          <p:cNvSpPr txBox="1"/>
          <p:nvPr/>
        </p:nvSpPr>
        <p:spPr>
          <a:xfrm rot="20620800">
            <a:off x="372960" y="1509840"/>
            <a:ext cx="2425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 Guy Says...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5"/>
          <a:stretch/>
        </p:blipFill>
        <p:spPr>
          <a:xfrm>
            <a:off x="492120" y="1171440"/>
            <a:ext cx="590400" cy="33984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3203640" y="1359000"/>
            <a:ext cx="5162400" cy="2239920"/>
          </a:xfrm>
          <a:prstGeom prst="wedgeRoundRectCallout">
            <a:avLst>
              <a:gd name="adj1" fmla="val -67925"/>
              <a:gd name="adj2" fmla="val 45675"/>
              <a:gd name="adj3" fmla="val 1666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To determine if a comma should go between two adjectives, try switching the order of the adjectives. If the sentence does not make sense this way, do not use a comm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8480" y="365040"/>
            <a:ext cx="80820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br>
              <a:rPr sz="2500"/>
            </a:br>
            <a:endParaRPr b="1" lang="en-US" sz="2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076560" y="4451400"/>
            <a:ext cx="5364000" cy="3988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Would “horned large owl” make sens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3084480" y="3900600"/>
            <a:ext cx="5357880" cy="429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A large horned owl lives in that tre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3084480" y="4971960"/>
            <a:ext cx="5359320" cy="398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No. Do not add a comma</a:t>
            </a:r>
            <a:r>
              <a:rPr b="0" i="1" lang="en-US" sz="2000" spc="-1" strike="noStrike">
                <a:solidFill>
                  <a:srgbClr val="ffff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6"/>
          <a:stretch/>
        </p:blipFill>
        <p:spPr>
          <a:xfrm>
            <a:off x="8488440" y="3419640"/>
            <a:ext cx="133200" cy="8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8" descr=""/>
          <p:cNvPicPr/>
          <p:nvPr/>
        </p:nvPicPr>
        <p:blipFill>
          <a:blip r:embed="rId7"/>
          <a:stretch/>
        </p:blipFill>
        <p:spPr>
          <a:xfrm>
            <a:off x="8529480" y="423216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"/>
          <p:cNvPicPr/>
          <p:nvPr/>
        </p:nvPicPr>
        <p:blipFill>
          <a:blip r:embed="rId8"/>
          <a:stretch/>
        </p:blipFill>
        <p:spPr>
          <a:xfrm>
            <a:off x="8529480" y="4764240"/>
            <a:ext cx="133560" cy="88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528480" y="2836800"/>
            <a:ext cx="704376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2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finished my dinner brushed my teeth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combed my hair and ran out the doo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509760" y="3862440"/>
            <a:ext cx="7075440" cy="49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3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e old diary had ragged yellowed pag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33520" y="4530600"/>
            <a:ext cx="7038720" cy="85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4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I chose the gift Mike wrapped it and Gina 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gave it to Kelly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28480" y="1297080"/>
            <a:ext cx="80647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228600" anchor="t">
            <a:sp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1714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ffff99"/>
                </a:solidFill>
                <a:latin typeface="Verdana"/>
              </a:rPr>
              <a:t>Identify each series in the following sentences, and add commas where necessary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22" descr=""/>
          <p:cNvPicPr/>
          <p:nvPr/>
        </p:nvPicPr>
        <p:blipFill>
          <a:blip r:embed="rId2"/>
          <a:stretch/>
        </p:blipFill>
        <p:spPr>
          <a:xfrm>
            <a:off x="528480" y="1320840"/>
            <a:ext cx="1622520" cy="3398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0"/>
          <p:cNvSpPr/>
          <p:nvPr/>
        </p:nvSpPr>
        <p:spPr>
          <a:xfrm>
            <a:off x="533520" y="365040"/>
            <a:ext cx="8076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99"/>
                </a:solidFill>
                <a:latin typeface="Verdana"/>
              </a:rPr>
              <a:t>Items in a se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3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732800" y="298944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732800" y="3954600"/>
            <a:ext cx="1030320" cy="420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743960" y="4664160"/>
            <a:ext cx="1030320" cy="42048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36">
            <a:hlinkClick r:id="rId9" action="ppaction://hlinksldjump"/>
          </p:cNvPr>
          <p:cNvSpPr/>
          <p:nvPr/>
        </p:nvSpPr>
        <p:spPr>
          <a:xfrm>
            <a:off x="3009960" y="5978520"/>
            <a:ext cx="1460520" cy="561960"/>
          </a:xfrm>
          <a:custGeom>
            <a:avLst/>
            <a:gdLst>
              <a:gd name="textAreaLeft" fmla="*/ 36360 w 1460520"/>
              <a:gd name="textAreaRight" fmla="*/ 1424160 w 1460520"/>
              <a:gd name="textAreaTop" fmla="*/ 36360 h 561960"/>
              <a:gd name="textAreaBottom" fmla="*/ 525600 h 561960"/>
            </a:gdLst>
            <a:ahLst/>
            <a:rect l="textAreaLeft" t="textAreaTop" r="textAreaRight" b="textAreaBottom"/>
            <a:pathLst>
              <a:path w="56116" h="21600">
                <a:moveTo>
                  <a:pt x="0" y="0"/>
                </a:moveTo>
                <a:lnTo>
                  <a:pt x="56116" y="0"/>
                </a:lnTo>
                <a:lnTo>
                  <a:pt x="56116" y="21600"/>
                </a:lnTo>
                <a:lnTo>
                  <a:pt x="0" y="21600"/>
                </a:lnTo>
                <a:close/>
              </a:path>
              <a:path fill="lightenLess" w="56116" h="21600">
                <a:moveTo>
                  <a:pt x="0" y="0"/>
                </a:moveTo>
                <a:lnTo>
                  <a:pt x="56116" y="0"/>
                </a:lnTo>
                <a:lnTo>
                  <a:pt x="54716" y="1400"/>
                </a:lnTo>
                <a:lnTo>
                  <a:pt x="1400" y="1400"/>
                </a:lnTo>
                <a:close/>
              </a:path>
              <a:path fill="darken" w="56116" h="21600">
                <a:moveTo>
                  <a:pt x="56116" y="0"/>
                </a:moveTo>
                <a:lnTo>
                  <a:pt x="56116" y="21600"/>
                </a:lnTo>
                <a:lnTo>
                  <a:pt x="54716" y="20200"/>
                </a:lnTo>
                <a:lnTo>
                  <a:pt x="54716" y="1400"/>
                </a:lnTo>
                <a:close/>
              </a:path>
              <a:path fill="darkenLess" w="56116" h="21600">
                <a:moveTo>
                  <a:pt x="56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16" y="20200"/>
                </a:lnTo>
                <a:close/>
              </a:path>
              <a:path fill="lighten" w="56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509760" y="2208240"/>
            <a:ext cx="7043400" cy="49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spcBef>
                <a:spcPts val="1375"/>
              </a:spcBef>
              <a:spcAft>
                <a:spcPts val="1375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1.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330066"/>
                </a:solidFill>
                <a:latin typeface="Verdana"/>
              </a:rPr>
              <a:t>This project is fun easy fast and inexpens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713720" y="2262240"/>
            <a:ext cx="1030320" cy="42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21:43:20Z</dcterms:created>
  <dc:creator>Tamesa Williams</dc:creator>
  <dc:description/>
  <dc:language>en-US</dc:language>
  <cp:lastModifiedBy>cfpms</cp:lastModifiedBy>
  <dcterms:modified xsi:type="dcterms:W3CDTF">2014-04-10T12:35:45Z</dcterms:modified>
  <cp:revision>562</cp:revision>
  <dc:subject/>
  <dc:title>Slide 1</dc:title>
</cp:coreProperties>
</file>